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7E8A-F962-4A36-B661-7EAEC6DE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82E-F94B-498D-AF37-37E00B3E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29E-F501-47F7-A8AA-8D064877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6FC6-39D8-4018-BD56-49997491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64A-ECF9-4382-B91D-EFDFF24C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C4BE-40CB-4EEA-A726-237F3C92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CAD7-BEBF-4E4F-87FE-DAE1CACF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78B2-6C37-4B5A-BC0C-56B50130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4272-0932-4E2F-9A3D-2FE44AA1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B51C-6576-43A4-B058-A90BEE1A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08C-532A-4679-9E5D-4566084F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8D3-4DD5-483C-A5CA-D17FD9D9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D460-821F-4749-A367-B5D23AA08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Hidden Process Model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 represented 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Bayes N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es, but it’s not prett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Attem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20960" y="1716120"/>
            <a:ext cx="60948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30240" y="1716120"/>
            <a:ext cx="60948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11320" y="1716120"/>
            <a:ext cx="60984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78360" y="1716120"/>
            <a:ext cx="60948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45040" y="1716120"/>
            <a:ext cx="60948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88040" y="1716120"/>
            <a:ext cx="60948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54720" y="1716120"/>
            <a:ext cx="60984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21760" y="1716120"/>
            <a:ext cx="60948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207" idx="6"/>
            <a:endCxn id="206" idx="2"/>
          </p:cNvCxnSpPr>
          <p:nvPr/>
        </p:nvCxnSpPr>
        <p:spPr>
          <a:xfrm>
            <a:off x="1539360" y="2020680"/>
            <a:ext cx="38196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6" idx="6"/>
            <a:endCxn id="208" idx="2"/>
          </p:cNvCxnSpPr>
          <p:nvPr/>
        </p:nvCxnSpPr>
        <p:spPr>
          <a:xfrm>
            <a:off x="2530440" y="2020680"/>
            <a:ext cx="3816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08" idx="6"/>
            <a:endCxn id="209" idx="2"/>
          </p:cNvCxnSpPr>
          <p:nvPr/>
        </p:nvCxnSpPr>
        <p:spPr>
          <a:xfrm>
            <a:off x="3521160" y="2020680"/>
            <a:ext cx="4579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09" idx="6"/>
            <a:endCxn id="210" idx="2"/>
          </p:cNvCxnSpPr>
          <p:nvPr/>
        </p:nvCxnSpPr>
        <p:spPr>
          <a:xfrm>
            <a:off x="4587840" y="2020680"/>
            <a:ext cx="4579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0" idx="6"/>
            <a:endCxn id="211" idx="2"/>
          </p:cNvCxnSpPr>
          <p:nvPr/>
        </p:nvCxnSpPr>
        <p:spPr>
          <a:xfrm>
            <a:off x="5654520" y="2020680"/>
            <a:ext cx="5342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1" idx="6"/>
            <a:endCxn id="212" idx="2"/>
          </p:cNvCxnSpPr>
          <p:nvPr/>
        </p:nvCxnSpPr>
        <p:spPr>
          <a:xfrm>
            <a:off x="6797520" y="2020680"/>
            <a:ext cx="4579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2" idx="6"/>
            <a:endCxn id="213" idx="2"/>
          </p:cNvCxnSpPr>
          <p:nvPr/>
        </p:nvCxnSpPr>
        <p:spPr>
          <a:xfrm>
            <a:off x="7864560" y="2020680"/>
            <a:ext cx="4579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1905120" y="4687920"/>
            <a:ext cx="609480" cy="60948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4687920"/>
            <a:ext cx="609480" cy="60948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4687920"/>
            <a:ext cx="609840" cy="60948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4687920"/>
            <a:ext cx="609480" cy="60948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4687920"/>
            <a:ext cx="609480" cy="60948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72200" y="4687920"/>
            <a:ext cx="609480" cy="60948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38880" y="4687920"/>
            <a:ext cx="609840" cy="60948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05920" y="4687920"/>
            <a:ext cx="609480" cy="60948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2" idx="6"/>
            <a:endCxn id="221" idx="2"/>
          </p:cNvCxnSpPr>
          <p:nvPr/>
        </p:nvCxnSpPr>
        <p:spPr>
          <a:xfrm>
            <a:off x="1523520" y="4992480"/>
            <a:ext cx="381960" cy="1080"/>
          </a:xfrm>
          <a:prstGeom prst="straightConnector1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1" idx="6"/>
            <a:endCxn id="223" idx="2"/>
          </p:cNvCxnSpPr>
          <p:nvPr/>
        </p:nvCxnSpPr>
        <p:spPr>
          <a:xfrm>
            <a:off x="2514600" y="4992480"/>
            <a:ext cx="381600" cy="1080"/>
          </a:xfrm>
          <a:prstGeom prst="straightConnector1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3" idx="6"/>
            <a:endCxn id="224" idx="2"/>
          </p:cNvCxnSpPr>
          <p:nvPr/>
        </p:nvCxnSpPr>
        <p:spPr>
          <a:xfrm>
            <a:off x="3505320" y="4992480"/>
            <a:ext cx="457920" cy="1080"/>
          </a:xfrm>
          <a:prstGeom prst="straightConnector1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4" idx="6"/>
            <a:endCxn id="225" idx="2"/>
          </p:cNvCxnSpPr>
          <p:nvPr/>
        </p:nvCxnSpPr>
        <p:spPr>
          <a:xfrm>
            <a:off x="4572000" y="4992480"/>
            <a:ext cx="457920" cy="1080"/>
          </a:xfrm>
          <a:prstGeom prst="straightConnector1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5" idx="6"/>
            <a:endCxn id="226" idx="2"/>
          </p:cNvCxnSpPr>
          <p:nvPr/>
        </p:nvCxnSpPr>
        <p:spPr>
          <a:xfrm>
            <a:off x="5638680" y="4992480"/>
            <a:ext cx="534240" cy="1080"/>
          </a:xfrm>
          <a:prstGeom prst="straightConnector1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26" idx="6"/>
            <a:endCxn id="227" idx="2"/>
          </p:cNvCxnSpPr>
          <p:nvPr/>
        </p:nvCxnSpPr>
        <p:spPr>
          <a:xfrm>
            <a:off x="6781680" y="4992480"/>
            <a:ext cx="457920" cy="1080"/>
          </a:xfrm>
          <a:prstGeom prst="straightConnector1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7" idx="6"/>
            <a:endCxn id="228" idx="2"/>
          </p:cNvCxnSpPr>
          <p:nvPr/>
        </p:nvCxnSpPr>
        <p:spPr>
          <a:xfrm>
            <a:off x="7848720" y="4992480"/>
            <a:ext cx="457920" cy="1080"/>
          </a:xfrm>
          <a:prstGeom prst="straightConnector1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1905120" y="2971800"/>
            <a:ext cx="609480" cy="6094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2971800"/>
            <a:ext cx="609480" cy="6094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2971800"/>
            <a:ext cx="609840" cy="6094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2971800"/>
            <a:ext cx="609480" cy="6094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2971800"/>
            <a:ext cx="609480" cy="6094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2971800"/>
            <a:ext cx="609480" cy="6094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38880" y="2971800"/>
            <a:ext cx="609840" cy="6094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05920" y="2971800"/>
            <a:ext cx="609480" cy="6094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37" idx="6"/>
            <a:endCxn id="236" idx="2"/>
          </p:cNvCxnSpPr>
          <p:nvPr/>
        </p:nvCxnSpPr>
        <p:spPr>
          <a:xfrm>
            <a:off x="1523520" y="3276360"/>
            <a:ext cx="381960" cy="10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6" idx="6"/>
            <a:endCxn id="238" idx="2"/>
          </p:cNvCxnSpPr>
          <p:nvPr/>
        </p:nvCxnSpPr>
        <p:spPr>
          <a:xfrm>
            <a:off x="2514600" y="3276360"/>
            <a:ext cx="381600" cy="10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8" idx="6"/>
            <a:endCxn id="239" idx="2"/>
          </p:cNvCxnSpPr>
          <p:nvPr/>
        </p:nvCxnSpPr>
        <p:spPr>
          <a:xfrm>
            <a:off x="3505320" y="3276360"/>
            <a:ext cx="457920" cy="10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39" idx="6"/>
            <a:endCxn id="240" idx="2"/>
          </p:cNvCxnSpPr>
          <p:nvPr/>
        </p:nvCxnSpPr>
        <p:spPr>
          <a:xfrm>
            <a:off x="4572000" y="3276360"/>
            <a:ext cx="457920" cy="10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40" idx="6"/>
            <a:endCxn id="241" idx="2"/>
          </p:cNvCxnSpPr>
          <p:nvPr/>
        </p:nvCxnSpPr>
        <p:spPr>
          <a:xfrm>
            <a:off x="5638680" y="3276360"/>
            <a:ext cx="534240" cy="10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1" idx="6"/>
            <a:endCxn id="242" idx="2"/>
          </p:cNvCxnSpPr>
          <p:nvPr/>
        </p:nvCxnSpPr>
        <p:spPr>
          <a:xfrm>
            <a:off x="6781680" y="3276360"/>
            <a:ext cx="457920" cy="10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2" idx="6"/>
            <a:endCxn id="243" idx="2"/>
          </p:cNvCxnSpPr>
          <p:nvPr/>
        </p:nvCxnSpPr>
        <p:spPr>
          <a:xfrm>
            <a:off x="7848720" y="3276360"/>
            <a:ext cx="457920" cy="10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1084680" y="1868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075040" y="1868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4992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32440" y="1868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8364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2664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409160" y="1868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475840" y="1868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6884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920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34080" y="308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00760" y="308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67800" y="308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10800" y="308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77480" y="308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44160" y="308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60" y="1752480"/>
            <a:ext cx="10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(d=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60" y="2971800"/>
            <a:ext cx="10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(d=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20" y="415440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(d=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76680" y="480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43360" y="480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9920" y="484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024800" y="480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67800" y="480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10800" y="480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377480" y="480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444160" y="480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193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4380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61048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09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67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4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77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438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610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19320" y="537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09680" y="537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537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67080" y="537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34120" y="537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477120" y="537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43800" y="537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610480" y="537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43200" y="55227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19440" y="5943600"/>
            <a:ext cx="75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d this come from instances whose counts are at 3 and 4 or at 2 and 5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know which parts of the response signature to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EEA6-F10C-4445-A0DB-D4D7448A97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ins must be inst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in advance the maximum possible number of process instances: 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(c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onfiguration has a fewer number of instances, all timepoints for the excess instances will be zero (never activ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F35-EC0B-41D5-ACBF-0AF7FEB9F9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010280" y="91440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20120" y="914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29600" y="914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763120" y="914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914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914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91440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914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914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91440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05320" y="914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14800" y="914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914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914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914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91440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"/>
          <p:cNvCxnSpPr>
            <a:stCxn id="318" idx="6"/>
            <a:endCxn id="319" idx="2"/>
          </p:cNvCxnSpPr>
          <p:nvPr/>
        </p:nvCxnSpPr>
        <p:spPr>
          <a:xfrm>
            <a:off x="380880" y="110448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19" idx="6"/>
            <a:endCxn id="320" idx="2"/>
          </p:cNvCxnSpPr>
          <p:nvPr/>
        </p:nvCxnSpPr>
        <p:spPr>
          <a:xfrm>
            <a:off x="914040" y="110448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320" idx="6"/>
            <a:endCxn id="321" idx="2"/>
          </p:cNvCxnSpPr>
          <p:nvPr/>
        </p:nvCxnSpPr>
        <p:spPr>
          <a:xfrm>
            <a:off x="1523520" y="110448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321" idx="6"/>
            <a:endCxn id="314" idx="2"/>
          </p:cNvCxnSpPr>
          <p:nvPr/>
        </p:nvCxnSpPr>
        <p:spPr>
          <a:xfrm>
            <a:off x="2133360" y="110448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14" idx="6"/>
            <a:endCxn id="315" idx="2"/>
          </p:cNvCxnSpPr>
          <p:nvPr/>
        </p:nvCxnSpPr>
        <p:spPr>
          <a:xfrm>
            <a:off x="2742840" y="110448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15" idx="6"/>
            <a:endCxn id="316" idx="2"/>
          </p:cNvCxnSpPr>
          <p:nvPr/>
        </p:nvCxnSpPr>
        <p:spPr>
          <a:xfrm>
            <a:off x="3276360" y="110448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6" idx="6"/>
            <a:endCxn id="317" idx="2"/>
          </p:cNvCxnSpPr>
          <p:nvPr/>
        </p:nvCxnSpPr>
        <p:spPr>
          <a:xfrm>
            <a:off x="3885840" y="110448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17" idx="6"/>
            <a:endCxn id="310" idx="2"/>
          </p:cNvCxnSpPr>
          <p:nvPr/>
        </p:nvCxnSpPr>
        <p:spPr>
          <a:xfrm>
            <a:off x="4495680" y="110448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10" idx="6"/>
            <a:endCxn id="311" idx="2"/>
          </p:cNvCxnSpPr>
          <p:nvPr/>
        </p:nvCxnSpPr>
        <p:spPr>
          <a:xfrm>
            <a:off x="5028840" y="110448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11" idx="6"/>
            <a:endCxn id="312" idx="2"/>
          </p:cNvCxnSpPr>
          <p:nvPr/>
        </p:nvCxnSpPr>
        <p:spPr>
          <a:xfrm>
            <a:off x="5638320" y="110448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32" name=""/>
          <p:cNvCxnSpPr>
            <a:stCxn id="312" idx="6"/>
            <a:endCxn id="313" idx="2"/>
          </p:cNvCxnSpPr>
          <p:nvPr/>
        </p:nvCxnSpPr>
        <p:spPr>
          <a:xfrm>
            <a:off x="6248160" y="110448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13" idx="6"/>
            <a:endCxn id="306" idx="2"/>
          </p:cNvCxnSpPr>
          <p:nvPr/>
        </p:nvCxnSpPr>
        <p:spPr>
          <a:xfrm>
            <a:off x="6857640" y="110448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34" name=""/>
          <p:cNvCxnSpPr>
            <a:stCxn id="306" idx="6"/>
            <a:endCxn id="307" idx="2"/>
          </p:cNvCxnSpPr>
          <p:nvPr/>
        </p:nvCxnSpPr>
        <p:spPr>
          <a:xfrm>
            <a:off x="7391160" y="110448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35" name=""/>
          <p:cNvCxnSpPr>
            <a:stCxn id="307" idx="6"/>
            <a:endCxn id="308" idx="2"/>
          </p:cNvCxnSpPr>
          <p:nvPr/>
        </p:nvCxnSpPr>
        <p:spPr>
          <a:xfrm>
            <a:off x="8000640" y="110448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36" name=""/>
          <p:cNvCxnSpPr>
            <a:stCxn id="308" idx="6"/>
            <a:endCxn id="309" idx="2"/>
          </p:cNvCxnSpPr>
          <p:nvPr/>
        </p:nvCxnSpPr>
        <p:spPr>
          <a:xfrm>
            <a:off x="8610480" y="110448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1071360" y="9144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1520" y="9144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80840" y="9144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90320" y="9144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3840" y="9144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33320" y="9144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43160" y="9144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6320" y="9144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99600" y="9144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89760" y="9144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409080" y="9144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42600" y="9144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61560" y="9144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52080" y="9144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674560" y="9144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10280" y="259092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20120" y="259092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229600" y="259092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763120" y="259092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48320" y="259092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57800" y="259092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259092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77120" y="259092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362320" y="259092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95480" y="259092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05320" y="259092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259092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259092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259092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3000" y="259092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52480" y="259092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"/>
          <p:cNvCxnSpPr>
            <a:stCxn id="364" idx="6"/>
            <a:endCxn id="365" idx="2"/>
          </p:cNvCxnSpPr>
          <p:nvPr/>
        </p:nvCxnSpPr>
        <p:spPr>
          <a:xfrm>
            <a:off x="380880" y="278100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5" idx="6"/>
            <a:endCxn id="366" idx="2"/>
          </p:cNvCxnSpPr>
          <p:nvPr/>
        </p:nvCxnSpPr>
        <p:spPr>
          <a:xfrm>
            <a:off x="914040" y="278100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66" idx="6"/>
            <a:endCxn id="367" idx="2"/>
          </p:cNvCxnSpPr>
          <p:nvPr/>
        </p:nvCxnSpPr>
        <p:spPr>
          <a:xfrm>
            <a:off x="1523520" y="278100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7" idx="6"/>
            <a:endCxn id="360" idx="2"/>
          </p:cNvCxnSpPr>
          <p:nvPr/>
        </p:nvCxnSpPr>
        <p:spPr>
          <a:xfrm>
            <a:off x="2133360" y="278100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72" name=""/>
          <p:cNvCxnSpPr>
            <a:stCxn id="360" idx="6"/>
            <a:endCxn id="361" idx="2"/>
          </p:cNvCxnSpPr>
          <p:nvPr/>
        </p:nvCxnSpPr>
        <p:spPr>
          <a:xfrm>
            <a:off x="2742840" y="278100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61" idx="6"/>
            <a:endCxn id="362" idx="2"/>
          </p:cNvCxnSpPr>
          <p:nvPr/>
        </p:nvCxnSpPr>
        <p:spPr>
          <a:xfrm>
            <a:off x="3276360" y="278100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74" name=""/>
          <p:cNvCxnSpPr>
            <a:stCxn id="362" idx="6"/>
            <a:endCxn id="363" idx="2"/>
          </p:cNvCxnSpPr>
          <p:nvPr/>
        </p:nvCxnSpPr>
        <p:spPr>
          <a:xfrm>
            <a:off x="3885840" y="278100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75" name=""/>
          <p:cNvCxnSpPr>
            <a:stCxn id="363" idx="6"/>
            <a:endCxn id="356" idx="2"/>
          </p:cNvCxnSpPr>
          <p:nvPr/>
        </p:nvCxnSpPr>
        <p:spPr>
          <a:xfrm>
            <a:off x="4495680" y="278100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56" idx="6"/>
            <a:endCxn id="357" idx="2"/>
          </p:cNvCxnSpPr>
          <p:nvPr/>
        </p:nvCxnSpPr>
        <p:spPr>
          <a:xfrm>
            <a:off x="5028840" y="278100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57" idx="6"/>
            <a:endCxn id="358" idx="2"/>
          </p:cNvCxnSpPr>
          <p:nvPr/>
        </p:nvCxnSpPr>
        <p:spPr>
          <a:xfrm>
            <a:off x="5638320" y="278100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58" idx="6"/>
            <a:endCxn id="359" idx="2"/>
          </p:cNvCxnSpPr>
          <p:nvPr/>
        </p:nvCxnSpPr>
        <p:spPr>
          <a:xfrm>
            <a:off x="6248160" y="278100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59" idx="6"/>
            <a:endCxn id="352" idx="2"/>
          </p:cNvCxnSpPr>
          <p:nvPr/>
        </p:nvCxnSpPr>
        <p:spPr>
          <a:xfrm>
            <a:off x="6857640" y="278100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52" idx="6"/>
            <a:endCxn id="353" idx="2"/>
          </p:cNvCxnSpPr>
          <p:nvPr/>
        </p:nvCxnSpPr>
        <p:spPr>
          <a:xfrm>
            <a:off x="7391160" y="278100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53" idx="6"/>
            <a:endCxn id="354" idx="2"/>
          </p:cNvCxnSpPr>
          <p:nvPr/>
        </p:nvCxnSpPr>
        <p:spPr>
          <a:xfrm>
            <a:off x="8000640" y="278100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82" name=""/>
          <p:cNvCxnSpPr>
            <a:stCxn id="354" idx="6"/>
            <a:endCxn id="355" idx="2"/>
          </p:cNvCxnSpPr>
          <p:nvPr/>
        </p:nvCxnSpPr>
        <p:spPr>
          <a:xfrm>
            <a:off x="8610480" y="278100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sp>
        <p:nvSpPr>
          <p:cNvPr id="383" name=""/>
          <p:cNvSpPr/>
          <p:nvPr/>
        </p:nvSpPr>
        <p:spPr>
          <a:xfrm>
            <a:off x="1071360" y="25909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1520" y="25909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80840" y="25909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90320" y="25909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823840" y="25909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33320" y="25909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43160" y="25909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76320" y="25909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799600" y="25909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189760" y="25909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09080" y="25909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42600" y="25909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61560" y="25909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552080" y="25909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674560" y="25909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10280" y="419112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0120" y="419112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229600" y="419112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763120" y="419112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648320" y="419112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419112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419112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77120" y="419112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362320" y="419112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419112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19112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114800" y="419112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419112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3520" y="419112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19112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52480" y="419112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"/>
          <p:cNvCxnSpPr>
            <a:stCxn id="410" idx="6"/>
            <a:endCxn id="411" idx="2"/>
          </p:cNvCxnSpPr>
          <p:nvPr/>
        </p:nvCxnSpPr>
        <p:spPr>
          <a:xfrm>
            <a:off x="380880" y="438120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411" idx="6"/>
            <a:endCxn id="412" idx="2"/>
          </p:cNvCxnSpPr>
          <p:nvPr/>
        </p:nvCxnSpPr>
        <p:spPr>
          <a:xfrm>
            <a:off x="914040" y="438120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412" idx="6"/>
            <a:endCxn id="413" idx="2"/>
          </p:cNvCxnSpPr>
          <p:nvPr/>
        </p:nvCxnSpPr>
        <p:spPr>
          <a:xfrm>
            <a:off x="1523520" y="438120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413" idx="6"/>
            <a:endCxn id="406" idx="2"/>
          </p:cNvCxnSpPr>
          <p:nvPr/>
        </p:nvCxnSpPr>
        <p:spPr>
          <a:xfrm>
            <a:off x="2133360" y="438120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406" idx="6"/>
            <a:endCxn id="407" idx="2"/>
          </p:cNvCxnSpPr>
          <p:nvPr/>
        </p:nvCxnSpPr>
        <p:spPr>
          <a:xfrm>
            <a:off x="2742840" y="438120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419" name=""/>
          <p:cNvCxnSpPr>
            <a:stCxn id="407" idx="6"/>
            <a:endCxn id="408" idx="2"/>
          </p:cNvCxnSpPr>
          <p:nvPr/>
        </p:nvCxnSpPr>
        <p:spPr>
          <a:xfrm>
            <a:off x="3276360" y="438120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08" idx="6"/>
            <a:endCxn id="409" idx="2"/>
          </p:cNvCxnSpPr>
          <p:nvPr/>
        </p:nvCxnSpPr>
        <p:spPr>
          <a:xfrm>
            <a:off x="3885840" y="438120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stCxn id="409" idx="6"/>
            <a:endCxn id="402" idx="2"/>
          </p:cNvCxnSpPr>
          <p:nvPr/>
        </p:nvCxnSpPr>
        <p:spPr>
          <a:xfrm>
            <a:off x="4495680" y="438120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02" idx="6"/>
            <a:endCxn id="403" idx="2"/>
          </p:cNvCxnSpPr>
          <p:nvPr/>
        </p:nvCxnSpPr>
        <p:spPr>
          <a:xfrm>
            <a:off x="5028840" y="438120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423" name=""/>
          <p:cNvCxnSpPr>
            <a:stCxn id="403" idx="6"/>
            <a:endCxn id="404" idx="2"/>
          </p:cNvCxnSpPr>
          <p:nvPr/>
        </p:nvCxnSpPr>
        <p:spPr>
          <a:xfrm>
            <a:off x="5638320" y="438120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424" name=""/>
          <p:cNvCxnSpPr>
            <a:stCxn id="404" idx="6"/>
            <a:endCxn id="405" idx="2"/>
          </p:cNvCxnSpPr>
          <p:nvPr/>
        </p:nvCxnSpPr>
        <p:spPr>
          <a:xfrm>
            <a:off x="6248160" y="438120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425" name=""/>
          <p:cNvCxnSpPr>
            <a:stCxn id="405" idx="6"/>
            <a:endCxn id="398" idx="2"/>
          </p:cNvCxnSpPr>
          <p:nvPr/>
        </p:nvCxnSpPr>
        <p:spPr>
          <a:xfrm>
            <a:off x="6857640" y="438120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398" idx="6"/>
            <a:endCxn id="399" idx="2"/>
          </p:cNvCxnSpPr>
          <p:nvPr/>
        </p:nvCxnSpPr>
        <p:spPr>
          <a:xfrm>
            <a:off x="7391160" y="438120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399" idx="6"/>
            <a:endCxn id="400" idx="2"/>
          </p:cNvCxnSpPr>
          <p:nvPr/>
        </p:nvCxnSpPr>
        <p:spPr>
          <a:xfrm>
            <a:off x="8000640" y="438120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0" idx="6"/>
            <a:endCxn id="401" idx="2"/>
          </p:cNvCxnSpPr>
          <p:nvPr/>
        </p:nvCxnSpPr>
        <p:spPr>
          <a:xfrm>
            <a:off x="8610480" y="438120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010280" y="5638680"/>
            <a:ext cx="381240" cy="3812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620120" y="5638680"/>
            <a:ext cx="380880" cy="3812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29600" y="5638680"/>
            <a:ext cx="380880" cy="3812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763120" y="5638680"/>
            <a:ext cx="380880" cy="3812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48320" y="5638680"/>
            <a:ext cx="380880" cy="3812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257800" y="5638680"/>
            <a:ext cx="380880" cy="3812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867280" y="5638680"/>
            <a:ext cx="381240" cy="3812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477120" y="5638680"/>
            <a:ext cx="380880" cy="3812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362320" y="5638680"/>
            <a:ext cx="380880" cy="3812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638680"/>
            <a:ext cx="381240" cy="3812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05320" y="5638680"/>
            <a:ext cx="380880" cy="3812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5638680"/>
            <a:ext cx="380880" cy="3812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3520" y="5638680"/>
            <a:ext cx="380880" cy="3812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752480" y="5638680"/>
            <a:ext cx="381240" cy="3812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"/>
          <p:cNvCxnSpPr>
            <a:stCxn id="441" idx="6"/>
            <a:endCxn id="442" idx="2"/>
          </p:cNvCxnSpPr>
          <p:nvPr/>
        </p:nvCxnSpPr>
        <p:spPr>
          <a:xfrm>
            <a:off x="380880" y="582912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46" name=""/>
          <p:cNvCxnSpPr>
            <a:stCxn id="442" idx="6"/>
            <a:endCxn id="443" idx="2"/>
          </p:cNvCxnSpPr>
          <p:nvPr/>
        </p:nvCxnSpPr>
        <p:spPr>
          <a:xfrm>
            <a:off x="914040" y="582912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47" name=""/>
          <p:cNvCxnSpPr>
            <a:stCxn id="443" idx="6"/>
            <a:endCxn id="444" idx="2"/>
          </p:cNvCxnSpPr>
          <p:nvPr/>
        </p:nvCxnSpPr>
        <p:spPr>
          <a:xfrm>
            <a:off x="1523520" y="582912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48" name=""/>
          <p:cNvCxnSpPr>
            <a:stCxn id="444" idx="6"/>
            <a:endCxn id="437" idx="2"/>
          </p:cNvCxnSpPr>
          <p:nvPr/>
        </p:nvCxnSpPr>
        <p:spPr>
          <a:xfrm>
            <a:off x="2133360" y="582912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49" name=""/>
          <p:cNvCxnSpPr>
            <a:stCxn id="437" idx="6"/>
            <a:endCxn id="438" idx="2"/>
          </p:cNvCxnSpPr>
          <p:nvPr/>
        </p:nvCxnSpPr>
        <p:spPr>
          <a:xfrm>
            <a:off x="2742840" y="582912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50" name=""/>
          <p:cNvCxnSpPr>
            <a:stCxn id="438" idx="6"/>
            <a:endCxn id="439" idx="2"/>
          </p:cNvCxnSpPr>
          <p:nvPr/>
        </p:nvCxnSpPr>
        <p:spPr>
          <a:xfrm>
            <a:off x="3276360" y="582912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51" name=""/>
          <p:cNvCxnSpPr>
            <a:stCxn id="439" idx="6"/>
            <a:endCxn id="440" idx="2"/>
          </p:cNvCxnSpPr>
          <p:nvPr/>
        </p:nvCxnSpPr>
        <p:spPr>
          <a:xfrm>
            <a:off x="3885840" y="582912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52" name=""/>
          <p:cNvCxnSpPr>
            <a:stCxn id="440" idx="6"/>
            <a:endCxn id="433" idx="2"/>
          </p:cNvCxnSpPr>
          <p:nvPr/>
        </p:nvCxnSpPr>
        <p:spPr>
          <a:xfrm>
            <a:off x="4495680" y="582912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53" name=""/>
          <p:cNvCxnSpPr>
            <a:stCxn id="433" idx="6"/>
            <a:endCxn id="434" idx="2"/>
          </p:cNvCxnSpPr>
          <p:nvPr/>
        </p:nvCxnSpPr>
        <p:spPr>
          <a:xfrm>
            <a:off x="5028840" y="582912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54" name=""/>
          <p:cNvCxnSpPr>
            <a:stCxn id="434" idx="6"/>
            <a:endCxn id="435" idx="2"/>
          </p:cNvCxnSpPr>
          <p:nvPr/>
        </p:nvCxnSpPr>
        <p:spPr>
          <a:xfrm>
            <a:off x="5638320" y="582912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55" name=""/>
          <p:cNvCxnSpPr>
            <a:stCxn id="435" idx="6"/>
            <a:endCxn id="436" idx="2"/>
          </p:cNvCxnSpPr>
          <p:nvPr/>
        </p:nvCxnSpPr>
        <p:spPr>
          <a:xfrm>
            <a:off x="6248160" y="582912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56" name=""/>
          <p:cNvCxnSpPr>
            <a:stCxn id="436" idx="6"/>
            <a:endCxn id="429" idx="2"/>
          </p:cNvCxnSpPr>
          <p:nvPr/>
        </p:nvCxnSpPr>
        <p:spPr>
          <a:xfrm>
            <a:off x="6857640" y="582912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57" name=""/>
          <p:cNvCxnSpPr>
            <a:stCxn id="429" idx="6"/>
            <a:endCxn id="430" idx="2"/>
          </p:cNvCxnSpPr>
          <p:nvPr/>
        </p:nvCxnSpPr>
        <p:spPr>
          <a:xfrm>
            <a:off x="7391160" y="582912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58" name=""/>
          <p:cNvCxnSpPr>
            <a:stCxn id="430" idx="6"/>
            <a:endCxn id="431" idx="2"/>
          </p:cNvCxnSpPr>
          <p:nvPr/>
        </p:nvCxnSpPr>
        <p:spPr>
          <a:xfrm>
            <a:off x="8000640" y="582912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59" name=""/>
          <p:cNvCxnSpPr>
            <a:stCxn id="431" idx="6"/>
            <a:endCxn id="432" idx="2"/>
          </p:cNvCxnSpPr>
          <p:nvPr/>
        </p:nvCxnSpPr>
        <p:spPr>
          <a:xfrm>
            <a:off x="8610480" y="5829120"/>
            <a:ext cx="15336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460" name=""/>
          <p:cNvSpPr/>
          <p:nvPr/>
        </p:nvSpPr>
        <p:spPr>
          <a:xfrm>
            <a:off x="1071360" y="41911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61520" y="41911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80840" y="41911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90320" y="41911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23840" y="41911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433320" y="41911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043160" y="41911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76320" y="41911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799600" y="41911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189760" y="41911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409080" y="41911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942600" y="41911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161560" y="41911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552080" y="41911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695080" y="41911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"/>
          <p:cNvCxnSpPr>
            <a:stCxn id="318" idx="4"/>
          </p:cNvCxnSpPr>
          <p:nvPr/>
        </p:nvCxnSpPr>
        <p:spPr>
          <a:xfrm>
            <a:off x="190440" y="1294920"/>
            <a:ext cx="388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338" idx="2"/>
            <a:endCxn id="442" idx="0"/>
          </p:cNvCxnSpPr>
          <p:nvPr/>
        </p:nvCxnSpPr>
        <p:spPr>
          <a:xfrm>
            <a:off x="696600" y="131076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320" idx="4"/>
            <a:endCxn id="443" idx="0"/>
          </p:cNvCxnSpPr>
          <p:nvPr/>
        </p:nvCxnSpPr>
        <p:spPr>
          <a:xfrm>
            <a:off x="1333080" y="1294920"/>
            <a:ext cx="10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stCxn id="339" idx="2"/>
            <a:endCxn id="444" idx="0"/>
          </p:cNvCxnSpPr>
          <p:nvPr/>
        </p:nvCxnSpPr>
        <p:spPr>
          <a:xfrm>
            <a:off x="1915920" y="131076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stCxn id="340" idx="2"/>
            <a:endCxn id="437" idx="0"/>
          </p:cNvCxnSpPr>
          <p:nvPr/>
        </p:nvCxnSpPr>
        <p:spPr>
          <a:xfrm>
            <a:off x="2525400" y="131076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341" idx="2"/>
            <a:endCxn id="438" idx="0"/>
          </p:cNvCxnSpPr>
          <p:nvPr/>
        </p:nvCxnSpPr>
        <p:spPr>
          <a:xfrm>
            <a:off x="3058920" y="131076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342" idx="2"/>
            <a:endCxn id="439" idx="0"/>
          </p:cNvCxnSpPr>
          <p:nvPr/>
        </p:nvCxnSpPr>
        <p:spPr>
          <a:xfrm>
            <a:off x="3668400" y="131076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82" name=""/>
          <p:cNvCxnSpPr>
            <a:stCxn id="343" idx="2"/>
            <a:endCxn id="440" idx="0"/>
          </p:cNvCxnSpPr>
          <p:nvPr/>
        </p:nvCxnSpPr>
        <p:spPr>
          <a:xfrm>
            <a:off x="4277880" y="131076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83" name=""/>
          <p:cNvCxnSpPr>
            <a:stCxn id="344" idx="2"/>
            <a:endCxn id="433" idx="0"/>
          </p:cNvCxnSpPr>
          <p:nvPr/>
        </p:nvCxnSpPr>
        <p:spPr>
          <a:xfrm>
            <a:off x="4811400" y="131076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84" name=""/>
          <p:cNvCxnSpPr>
            <a:stCxn id="346" idx="2"/>
            <a:endCxn id="434" idx="0"/>
          </p:cNvCxnSpPr>
          <p:nvPr/>
        </p:nvCxnSpPr>
        <p:spPr>
          <a:xfrm flipH="1">
            <a:off x="5447880" y="131076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85" name=""/>
          <p:cNvCxnSpPr>
            <a:stCxn id="312" idx="4"/>
            <a:endCxn id="435" idx="0"/>
          </p:cNvCxnSpPr>
          <p:nvPr/>
        </p:nvCxnSpPr>
        <p:spPr>
          <a:xfrm>
            <a:off x="6057720" y="1294920"/>
            <a:ext cx="10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86" name=""/>
          <p:cNvCxnSpPr>
            <a:stCxn id="347" idx="2"/>
            <a:endCxn id="436" idx="0"/>
          </p:cNvCxnSpPr>
          <p:nvPr/>
        </p:nvCxnSpPr>
        <p:spPr>
          <a:xfrm flipH="1">
            <a:off x="6667200" y="131076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87" name=""/>
          <p:cNvCxnSpPr>
            <a:stCxn id="348" idx="2"/>
            <a:endCxn id="429" idx="0"/>
          </p:cNvCxnSpPr>
          <p:nvPr/>
        </p:nvCxnSpPr>
        <p:spPr>
          <a:xfrm flipH="1">
            <a:off x="7200360" y="1310760"/>
            <a:ext cx="1476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350" idx="2"/>
            <a:endCxn id="430" idx="0"/>
          </p:cNvCxnSpPr>
          <p:nvPr/>
        </p:nvCxnSpPr>
        <p:spPr>
          <a:xfrm flipH="1">
            <a:off x="7810200" y="131076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89" name=""/>
          <p:cNvCxnSpPr>
            <a:stCxn id="349" idx="2"/>
            <a:endCxn id="431" idx="0"/>
          </p:cNvCxnSpPr>
          <p:nvPr/>
        </p:nvCxnSpPr>
        <p:spPr>
          <a:xfrm flipH="1">
            <a:off x="8419680" y="131076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90" name=""/>
          <p:cNvCxnSpPr>
            <a:stCxn id="351" idx="2"/>
            <a:endCxn id="432" idx="0"/>
          </p:cNvCxnSpPr>
          <p:nvPr/>
        </p:nvCxnSpPr>
        <p:spPr>
          <a:xfrm>
            <a:off x="8947080" y="1310760"/>
            <a:ext cx="720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91" name=""/>
          <p:cNvCxnSpPr>
            <a:stCxn id="364" idx="4"/>
            <a:endCxn id="441" idx="1"/>
          </p:cNvCxnSpPr>
          <p:nvPr/>
        </p:nvCxnSpPr>
        <p:spPr>
          <a:xfrm flipH="1">
            <a:off x="54720" y="297144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492" name=""/>
          <p:cNvCxnSpPr>
            <a:stCxn id="384" idx="2"/>
          </p:cNvCxnSpPr>
          <p:nvPr/>
        </p:nvCxnSpPr>
        <p:spPr>
          <a:xfrm flipH="1">
            <a:off x="610920" y="2987280"/>
            <a:ext cx="86400" cy="26866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493" name=""/>
          <p:cNvCxnSpPr>
            <a:stCxn id="383" idx="2"/>
            <a:endCxn id="443" idx="1"/>
          </p:cNvCxnSpPr>
          <p:nvPr/>
        </p:nvCxnSpPr>
        <p:spPr>
          <a:xfrm flipH="1">
            <a:off x="1198080" y="298728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494" name=""/>
          <p:cNvCxnSpPr>
            <a:stCxn id="385" idx="2"/>
            <a:endCxn id="444" idx="1"/>
          </p:cNvCxnSpPr>
          <p:nvPr/>
        </p:nvCxnSpPr>
        <p:spPr>
          <a:xfrm flipH="1">
            <a:off x="1807920" y="298728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495" name=""/>
          <p:cNvCxnSpPr>
            <a:stCxn id="386" idx="2"/>
            <a:endCxn id="437" idx="1"/>
          </p:cNvCxnSpPr>
          <p:nvPr/>
        </p:nvCxnSpPr>
        <p:spPr>
          <a:xfrm flipH="1">
            <a:off x="2417400" y="298728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387" idx="2"/>
            <a:endCxn id="438" idx="1"/>
          </p:cNvCxnSpPr>
          <p:nvPr/>
        </p:nvCxnSpPr>
        <p:spPr>
          <a:xfrm flipH="1">
            <a:off x="2950920" y="298728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497" name=""/>
          <p:cNvCxnSpPr>
            <a:stCxn id="388" idx="2"/>
            <a:endCxn id="439" idx="1"/>
          </p:cNvCxnSpPr>
          <p:nvPr/>
        </p:nvCxnSpPr>
        <p:spPr>
          <a:xfrm flipH="1">
            <a:off x="3560400" y="298728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498" name=""/>
          <p:cNvCxnSpPr>
            <a:stCxn id="363" idx="4"/>
            <a:endCxn id="440" idx="1"/>
          </p:cNvCxnSpPr>
          <p:nvPr/>
        </p:nvCxnSpPr>
        <p:spPr>
          <a:xfrm flipH="1">
            <a:off x="4169520" y="297144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499" name=""/>
          <p:cNvCxnSpPr>
            <a:stCxn id="390" idx="2"/>
            <a:endCxn id="433" idx="1"/>
          </p:cNvCxnSpPr>
          <p:nvPr/>
        </p:nvCxnSpPr>
        <p:spPr>
          <a:xfrm flipH="1">
            <a:off x="4703400" y="298728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500" name=""/>
          <p:cNvCxnSpPr>
            <a:stCxn id="392" idx="2"/>
            <a:endCxn id="434" idx="1"/>
          </p:cNvCxnSpPr>
          <p:nvPr/>
        </p:nvCxnSpPr>
        <p:spPr>
          <a:xfrm flipH="1">
            <a:off x="5312520" y="298728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501" name=""/>
          <p:cNvCxnSpPr>
            <a:stCxn id="391" idx="2"/>
            <a:endCxn id="435" idx="1"/>
          </p:cNvCxnSpPr>
          <p:nvPr/>
        </p:nvCxnSpPr>
        <p:spPr>
          <a:xfrm flipH="1">
            <a:off x="5922720" y="2987280"/>
            <a:ext cx="14976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393" idx="2"/>
            <a:endCxn id="436" idx="1"/>
          </p:cNvCxnSpPr>
          <p:nvPr/>
        </p:nvCxnSpPr>
        <p:spPr>
          <a:xfrm flipH="1">
            <a:off x="6531840" y="298728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503" name=""/>
          <p:cNvCxnSpPr>
            <a:stCxn id="394" idx="2"/>
            <a:endCxn id="429" idx="1"/>
          </p:cNvCxnSpPr>
          <p:nvPr/>
        </p:nvCxnSpPr>
        <p:spPr>
          <a:xfrm flipH="1">
            <a:off x="7065720" y="2987280"/>
            <a:ext cx="14976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353" idx="4"/>
            <a:endCxn id="430" idx="1"/>
          </p:cNvCxnSpPr>
          <p:nvPr/>
        </p:nvCxnSpPr>
        <p:spPr>
          <a:xfrm flipH="1">
            <a:off x="7674840" y="297144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395" idx="2"/>
            <a:endCxn id="431" idx="1"/>
          </p:cNvCxnSpPr>
          <p:nvPr/>
        </p:nvCxnSpPr>
        <p:spPr>
          <a:xfrm flipH="1">
            <a:off x="8284320" y="298728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397" idx="2"/>
            <a:endCxn id="432" idx="1"/>
          </p:cNvCxnSpPr>
          <p:nvPr/>
        </p:nvCxnSpPr>
        <p:spPr>
          <a:xfrm flipH="1">
            <a:off x="8817840" y="2987280"/>
            <a:ext cx="12924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10" idx="4"/>
            <a:endCxn id="441" idx="7"/>
          </p:cNvCxnSpPr>
          <p:nvPr/>
        </p:nvCxnSpPr>
        <p:spPr>
          <a:xfrm>
            <a:off x="190080" y="457200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11" idx="4"/>
            <a:endCxn id="442" idx="7"/>
          </p:cNvCxnSpPr>
          <p:nvPr/>
        </p:nvCxnSpPr>
        <p:spPr>
          <a:xfrm>
            <a:off x="723600" y="457200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460" idx="2"/>
            <a:endCxn id="443" idx="7"/>
          </p:cNvCxnSpPr>
          <p:nvPr/>
        </p:nvCxnSpPr>
        <p:spPr>
          <a:xfrm>
            <a:off x="1306440" y="458784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62" idx="2"/>
            <a:endCxn id="444" idx="7"/>
          </p:cNvCxnSpPr>
          <p:nvPr/>
        </p:nvCxnSpPr>
        <p:spPr>
          <a:xfrm>
            <a:off x="1915920" y="4587840"/>
            <a:ext cx="16236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63" idx="2"/>
            <a:endCxn id="437" idx="7"/>
          </p:cNvCxnSpPr>
          <p:nvPr/>
        </p:nvCxnSpPr>
        <p:spPr>
          <a:xfrm>
            <a:off x="2525760" y="458784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64" idx="2"/>
            <a:endCxn id="438" idx="7"/>
          </p:cNvCxnSpPr>
          <p:nvPr/>
        </p:nvCxnSpPr>
        <p:spPr>
          <a:xfrm>
            <a:off x="3058920" y="4587840"/>
            <a:ext cx="16236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465" idx="2"/>
            <a:endCxn id="439" idx="7"/>
          </p:cNvCxnSpPr>
          <p:nvPr/>
        </p:nvCxnSpPr>
        <p:spPr>
          <a:xfrm>
            <a:off x="3668760" y="458784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409" idx="4"/>
            <a:endCxn id="440" idx="7"/>
          </p:cNvCxnSpPr>
          <p:nvPr/>
        </p:nvCxnSpPr>
        <p:spPr>
          <a:xfrm>
            <a:off x="4304880" y="457200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402" idx="4"/>
            <a:endCxn id="433" idx="7"/>
          </p:cNvCxnSpPr>
          <p:nvPr/>
        </p:nvCxnSpPr>
        <p:spPr>
          <a:xfrm>
            <a:off x="4838400" y="457200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403" idx="4"/>
            <a:endCxn id="434" idx="7"/>
          </p:cNvCxnSpPr>
          <p:nvPr/>
        </p:nvCxnSpPr>
        <p:spPr>
          <a:xfrm>
            <a:off x="5447880" y="457200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517" name=""/>
          <p:cNvCxnSpPr>
            <a:stCxn id="468" idx="2"/>
            <a:endCxn id="435" idx="7"/>
          </p:cNvCxnSpPr>
          <p:nvPr/>
        </p:nvCxnSpPr>
        <p:spPr>
          <a:xfrm>
            <a:off x="6071760" y="458784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518" name=""/>
          <p:cNvCxnSpPr>
            <a:stCxn id="470" idx="2"/>
            <a:endCxn id="436" idx="7"/>
          </p:cNvCxnSpPr>
          <p:nvPr/>
        </p:nvCxnSpPr>
        <p:spPr>
          <a:xfrm>
            <a:off x="6681600" y="458784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519" name=""/>
          <p:cNvCxnSpPr>
            <a:stCxn id="471" idx="2"/>
            <a:endCxn id="429" idx="7"/>
          </p:cNvCxnSpPr>
          <p:nvPr/>
        </p:nvCxnSpPr>
        <p:spPr>
          <a:xfrm>
            <a:off x="7214760" y="458784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520" name=""/>
          <p:cNvCxnSpPr>
            <a:stCxn id="473" idx="2"/>
            <a:endCxn id="430" idx="7"/>
          </p:cNvCxnSpPr>
          <p:nvPr/>
        </p:nvCxnSpPr>
        <p:spPr>
          <a:xfrm>
            <a:off x="7824600" y="458784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72" idx="2"/>
            <a:endCxn id="431" idx="7"/>
          </p:cNvCxnSpPr>
          <p:nvPr/>
        </p:nvCxnSpPr>
        <p:spPr>
          <a:xfrm>
            <a:off x="8434080" y="458784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474" idx="2"/>
            <a:endCxn id="432" idx="7"/>
          </p:cNvCxnSpPr>
          <p:nvPr/>
        </p:nvCxnSpPr>
        <p:spPr>
          <a:xfrm>
            <a:off x="8967600" y="458784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sp>
        <p:nvSpPr>
          <p:cNvPr id="523" name=""/>
          <p:cNvSpPr/>
          <p:nvPr/>
        </p:nvSpPr>
        <p:spPr>
          <a:xfrm>
            <a:off x="7010280" y="56545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620120" y="56545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229600" y="56545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763120" y="56545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48320" y="56545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257800" y="56545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867280" y="56545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77120" y="56545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62320" y="56545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895480" y="56545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6545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56545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56545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3520" y="56545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143000" y="56545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6545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072440" y="56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62600" y="56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81920" y="56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291400" y="56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824920" y="56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34400" y="56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044240" y="56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577400" y="56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744880" y="56386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35400" y="56386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354720" y="56386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887880" y="56386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107200" y="56386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497720" y="56386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619840" y="56386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00" y="56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34F7-B122-467B-8553-08ACCB0CC1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7010280" y="173664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20120" y="173664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229600" y="173664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763120" y="173664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648320" y="173664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257800" y="173664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173664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477120" y="173664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362320" y="173664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95480" y="173664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05320" y="173664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114800" y="173664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173664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3520" y="173664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143000" y="173664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752480" y="173664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"/>
          <p:cNvCxnSpPr>
            <a:stCxn id="567" idx="6"/>
            <a:endCxn id="568" idx="2"/>
          </p:cNvCxnSpPr>
          <p:nvPr/>
        </p:nvCxnSpPr>
        <p:spPr>
          <a:xfrm>
            <a:off x="380880" y="19267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68" idx="6"/>
            <a:endCxn id="569" idx="2"/>
          </p:cNvCxnSpPr>
          <p:nvPr/>
        </p:nvCxnSpPr>
        <p:spPr>
          <a:xfrm>
            <a:off x="914040" y="1926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9" idx="6"/>
            <a:endCxn id="570" idx="2"/>
          </p:cNvCxnSpPr>
          <p:nvPr/>
        </p:nvCxnSpPr>
        <p:spPr>
          <a:xfrm>
            <a:off x="1523520" y="1926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70" idx="6"/>
            <a:endCxn id="563" idx="2"/>
          </p:cNvCxnSpPr>
          <p:nvPr/>
        </p:nvCxnSpPr>
        <p:spPr>
          <a:xfrm>
            <a:off x="2133360" y="1926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63" idx="6"/>
            <a:endCxn id="564" idx="2"/>
          </p:cNvCxnSpPr>
          <p:nvPr/>
        </p:nvCxnSpPr>
        <p:spPr>
          <a:xfrm>
            <a:off x="2742840" y="19267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4" idx="6"/>
            <a:endCxn id="565" idx="2"/>
          </p:cNvCxnSpPr>
          <p:nvPr/>
        </p:nvCxnSpPr>
        <p:spPr>
          <a:xfrm>
            <a:off x="3276360" y="1926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5" idx="6"/>
            <a:endCxn id="566" idx="2"/>
          </p:cNvCxnSpPr>
          <p:nvPr/>
        </p:nvCxnSpPr>
        <p:spPr>
          <a:xfrm>
            <a:off x="3885840" y="1926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6" idx="6"/>
            <a:endCxn id="559" idx="2"/>
          </p:cNvCxnSpPr>
          <p:nvPr/>
        </p:nvCxnSpPr>
        <p:spPr>
          <a:xfrm>
            <a:off x="4495680" y="19267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79" name=""/>
          <p:cNvCxnSpPr>
            <a:stCxn id="559" idx="6"/>
            <a:endCxn id="560" idx="2"/>
          </p:cNvCxnSpPr>
          <p:nvPr/>
        </p:nvCxnSpPr>
        <p:spPr>
          <a:xfrm>
            <a:off x="5028840" y="1926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80" name=""/>
          <p:cNvCxnSpPr>
            <a:stCxn id="560" idx="6"/>
            <a:endCxn id="561" idx="2"/>
          </p:cNvCxnSpPr>
          <p:nvPr/>
        </p:nvCxnSpPr>
        <p:spPr>
          <a:xfrm>
            <a:off x="5638320" y="1926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81" name=""/>
          <p:cNvCxnSpPr>
            <a:stCxn id="561" idx="6"/>
            <a:endCxn id="562" idx="2"/>
          </p:cNvCxnSpPr>
          <p:nvPr/>
        </p:nvCxnSpPr>
        <p:spPr>
          <a:xfrm>
            <a:off x="6248160" y="1926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82" name=""/>
          <p:cNvCxnSpPr>
            <a:stCxn id="562" idx="6"/>
            <a:endCxn id="555" idx="2"/>
          </p:cNvCxnSpPr>
          <p:nvPr/>
        </p:nvCxnSpPr>
        <p:spPr>
          <a:xfrm>
            <a:off x="6857640" y="19267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83" name=""/>
          <p:cNvCxnSpPr>
            <a:stCxn id="555" idx="6"/>
            <a:endCxn id="556" idx="2"/>
          </p:cNvCxnSpPr>
          <p:nvPr/>
        </p:nvCxnSpPr>
        <p:spPr>
          <a:xfrm>
            <a:off x="7391160" y="1926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84" name=""/>
          <p:cNvCxnSpPr>
            <a:stCxn id="556" idx="6"/>
            <a:endCxn id="557" idx="2"/>
          </p:cNvCxnSpPr>
          <p:nvPr/>
        </p:nvCxnSpPr>
        <p:spPr>
          <a:xfrm>
            <a:off x="8000640" y="1926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85" name=""/>
          <p:cNvCxnSpPr>
            <a:stCxn id="557" idx="6"/>
            <a:endCxn id="558" idx="2"/>
          </p:cNvCxnSpPr>
          <p:nvPr/>
        </p:nvCxnSpPr>
        <p:spPr>
          <a:xfrm>
            <a:off x="8610480" y="19267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1071360" y="173664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61520" y="173664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680840" y="173664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90320" y="173664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23840" y="173664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33320" y="173664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043160" y="173664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576320" y="173664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799600" y="173664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189760" y="173664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409080" y="173664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942600" y="173664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161560" y="173664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552080" y="173664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674560" y="173664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10280" y="341316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620120" y="341316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229600" y="341316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763120" y="341316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48320" y="341316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7800" y="341316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867280" y="341316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477120" y="341316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362320" y="341316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95480" y="341316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505320" y="341316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341316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341316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41316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43000" y="341316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752480" y="341316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"/>
          <p:cNvCxnSpPr>
            <a:stCxn id="613" idx="6"/>
            <a:endCxn id="614" idx="2"/>
          </p:cNvCxnSpPr>
          <p:nvPr/>
        </p:nvCxnSpPr>
        <p:spPr>
          <a:xfrm>
            <a:off x="380880" y="360324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18" name=""/>
          <p:cNvCxnSpPr>
            <a:stCxn id="614" idx="6"/>
            <a:endCxn id="615" idx="2"/>
          </p:cNvCxnSpPr>
          <p:nvPr/>
        </p:nvCxnSpPr>
        <p:spPr>
          <a:xfrm>
            <a:off x="914040" y="360324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615" idx="6"/>
            <a:endCxn id="616" idx="2"/>
          </p:cNvCxnSpPr>
          <p:nvPr/>
        </p:nvCxnSpPr>
        <p:spPr>
          <a:xfrm>
            <a:off x="1523520" y="360324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20" name=""/>
          <p:cNvCxnSpPr>
            <a:stCxn id="616" idx="6"/>
            <a:endCxn id="609" idx="2"/>
          </p:cNvCxnSpPr>
          <p:nvPr/>
        </p:nvCxnSpPr>
        <p:spPr>
          <a:xfrm>
            <a:off x="2133360" y="360324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21" name=""/>
          <p:cNvCxnSpPr>
            <a:stCxn id="609" idx="6"/>
            <a:endCxn id="610" idx="2"/>
          </p:cNvCxnSpPr>
          <p:nvPr/>
        </p:nvCxnSpPr>
        <p:spPr>
          <a:xfrm>
            <a:off x="2742840" y="360324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0" idx="6"/>
            <a:endCxn id="611" idx="2"/>
          </p:cNvCxnSpPr>
          <p:nvPr/>
        </p:nvCxnSpPr>
        <p:spPr>
          <a:xfrm>
            <a:off x="3276360" y="360324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11" idx="6"/>
            <a:endCxn id="612" idx="2"/>
          </p:cNvCxnSpPr>
          <p:nvPr/>
        </p:nvCxnSpPr>
        <p:spPr>
          <a:xfrm>
            <a:off x="3885840" y="360324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12" idx="6"/>
            <a:endCxn id="605" idx="2"/>
          </p:cNvCxnSpPr>
          <p:nvPr/>
        </p:nvCxnSpPr>
        <p:spPr>
          <a:xfrm>
            <a:off x="4495680" y="360324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5" idx="6"/>
            <a:endCxn id="606" idx="2"/>
          </p:cNvCxnSpPr>
          <p:nvPr/>
        </p:nvCxnSpPr>
        <p:spPr>
          <a:xfrm>
            <a:off x="5028840" y="360324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06" idx="6"/>
            <a:endCxn id="607" idx="2"/>
          </p:cNvCxnSpPr>
          <p:nvPr/>
        </p:nvCxnSpPr>
        <p:spPr>
          <a:xfrm>
            <a:off x="5638320" y="360324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07" idx="6"/>
            <a:endCxn id="608" idx="2"/>
          </p:cNvCxnSpPr>
          <p:nvPr/>
        </p:nvCxnSpPr>
        <p:spPr>
          <a:xfrm>
            <a:off x="6248160" y="360324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08" idx="6"/>
            <a:endCxn id="601" idx="2"/>
          </p:cNvCxnSpPr>
          <p:nvPr/>
        </p:nvCxnSpPr>
        <p:spPr>
          <a:xfrm>
            <a:off x="6857640" y="360324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29" name=""/>
          <p:cNvCxnSpPr>
            <a:stCxn id="601" idx="6"/>
            <a:endCxn id="602" idx="2"/>
          </p:cNvCxnSpPr>
          <p:nvPr/>
        </p:nvCxnSpPr>
        <p:spPr>
          <a:xfrm>
            <a:off x="7391160" y="360324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30" name=""/>
          <p:cNvCxnSpPr>
            <a:stCxn id="602" idx="6"/>
            <a:endCxn id="603" idx="2"/>
          </p:cNvCxnSpPr>
          <p:nvPr/>
        </p:nvCxnSpPr>
        <p:spPr>
          <a:xfrm>
            <a:off x="8000640" y="360324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31" name=""/>
          <p:cNvCxnSpPr>
            <a:stCxn id="603" idx="6"/>
            <a:endCxn id="604" idx="2"/>
          </p:cNvCxnSpPr>
          <p:nvPr/>
        </p:nvCxnSpPr>
        <p:spPr>
          <a:xfrm>
            <a:off x="8610480" y="360324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sp>
        <p:nvSpPr>
          <p:cNvPr id="632" name=""/>
          <p:cNvSpPr/>
          <p:nvPr/>
        </p:nvSpPr>
        <p:spPr>
          <a:xfrm>
            <a:off x="1071360" y="341316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61520" y="341316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680840" y="341316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290320" y="341316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823840" y="341316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33320" y="341316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043160" y="341316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576320" y="341316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9600" y="341316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189760" y="341316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409080" y="341316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42600" y="341316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161560" y="341316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552080" y="341316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8674560" y="341316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010280" y="501336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620120" y="501336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8229600" y="501336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763120" y="501336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501336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257800" y="501336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867280" y="501336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477120" y="501336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362320" y="501336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895480" y="501336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05320" y="501336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114800" y="501336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501336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33520" y="501336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143000" y="501336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752480" y="501336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3" name=""/>
          <p:cNvCxnSpPr>
            <a:stCxn id="659" idx="6"/>
            <a:endCxn id="660" idx="2"/>
          </p:cNvCxnSpPr>
          <p:nvPr/>
        </p:nvCxnSpPr>
        <p:spPr>
          <a:xfrm>
            <a:off x="380880" y="520344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664" name=""/>
          <p:cNvCxnSpPr>
            <a:stCxn id="660" idx="6"/>
            <a:endCxn id="661" idx="2"/>
          </p:cNvCxnSpPr>
          <p:nvPr/>
        </p:nvCxnSpPr>
        <p:spPr>
          <a:xfrm>
            <a:off x="914040" y="520344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665" name=""/>
          <p:cNvCxnSpPr>
            <a:stCxn id="661" idx="6"/>
            <a:endCxn id="662" idx="2"/>
          </p:cNvCxnSpPr>
          <p:nvPr/>
        </p:nvCxnSpPr>
        <p:spPr>
          <a:xfrm>
            <a:off x="1523520" y="520344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666" name=""/>
          <p:cNvCxnSpPr>
            <a:stCxn id="662" idx="6"/>
            <a:endCxn id="655" idx="2"/>
          </p:cNvCxnSpPr>
          <p:nvPr/>
        </p:nvCxnSpPr>
        <p:spPr>
          <a:xfrm>
            <a:off x="2133360" y="520344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667" name=""/>
          <p:cNvCxnSpPr>
            <a:stCxn id="655" idx="6"/>
            <a:endCxn id="656" idx="2"/>
          </p:cNvCxnSpPr>
          <p:nvPr/>
        </p:nvCxnSpPr>
        <p:spPr>
          <a:xfrm>
            <a:off x="2742840" y="520344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668" name=""/>
          <p:cNvCxnSpPr>
            <a:stCxn id="656" idx="6"/>
            <a:endCxn id="657" idx="2"/>
          </p:cNvCxnSpPr>
          <p:nvPr/>
        </p:nvCxnSpPr>
        <p:spPr>
          <a:xfrm>
            <a:off x="3276360" y="520344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669" name=""/>
          <p:cNvCxnSpPr>
            <a:stCxn id="657" idx="6"/>
            <a:endCxn id="658" idx="2"/>
          </p:cNvCxnSpPr>
          <p:nvPr/>
        </p:nvCxnSpPr>
        <p:spPr>
          <a:xfrm>
            <a:off x="3885840" y="520344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670" name=""/>
          <p:cNvCxnSpPr>
            <a:stCxn id="658" idx="6"/>
            <a:endCxn id="651" idx="2"/>
          </p:cNvCxnSpPr>
          <p:nvPr/>
        </p:nvCxnSpPr>
        <p:spPr>
          <a:xfrm>
            <a:off x="4495680" y="520344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671" name=""/>
          <p:cNvCxnSpPr>
            <a:stCxn id="651" idx="6"/>
            <a:endCxn id="652" idx="2"/>
          </p:cNvCxnSpPr>
          <p:nvPr/>
        </p:nvCxnSpPr>
        <p:spPr>
          <a:xfrm>
            <a:off x="5028840" y="520344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672" name=""/>
          <p:cNvCxnSpPr>
            <a:stCxn id="652" idx="6"/>
            <a:endCxn id="653" idx="2"/>
          </p:cNvCxnSpPr>
          <p:nvPr/>
        </p:nvCxnSpPr>
        <p:spPr>
          <a:xfrm>
            <a:off x="5638320" y="520344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673" name=""/>
          <p:cNvCxnSpPr>
            <a:stCxn id="653" idx="6"/>
            <a:endCxn id="654" idx="2"/>
          </p:cNvCxnSpPr>
          <p:nvPr/>
        </p:nvCxnSpPr>
        <p:spPr>
          <a:xfrm>
            <a:off x="6248160" y="520344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674" name=""/>
          <p:cNvCxnSpPr>
            <a:stCxn id="654" idx="6"/>
            <a:endCxn id="647" idx="2"/>
          </p:cNvCxnSpPr>
          <p:nvPr/>
        </p:nvCxnSpPr>
        <p:spPr>
          <a:xfrm>
            <a:off x="6857640" y="520344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675" name=""/>
          <p:cNvCxnSpPr>
            <a:stCxn id="647" idx="6"/>
            <a:endCxn id="648" idx="2"/>
          </p:cNvCxnSpPr>
          <p:nvPr/>
        </p:nvCxnSpPr>
        <p:spPr>
          <a:xfrm>
            <a:off x="7391160" y="520344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676" name=""/>
          <p:cNvCxnSpPr>
            <a:stCxn id="648" idx="6"/>
            <a:endCxn id="649" idx="2"/>
          </p:cNvCxnSpPr>
          <p:nvPr/>
        </p:nvCxnSpPr>
        <p:spPr>
          <a:xfrm>
            <a:off x="8000640" y="520344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677" name=""/>
          <p:cNvCxnSpPr>
            <a:stCxn id="649" idx="6"/>
            <a:endCxn id="650" idx="2"/>
          </p:cNvCxnSpPr>
          <p:nvPr/>
        </p:nvCxnSpPr>
        <p:spPr>
          <a:xfrm>
            <a:off x="8610480" y="520344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sp>
        <p:nvSpPr>
          <p:cNvPr id="678" name=""/>
          <p:cNvSpPr/>
          <p:nvPr/>
        </p:nvSpPr>
        <p:spPr>
          <a:xfrm>
            <a:off x="7010280" y="6461280"/>
            <a:ext cx="381240" cy="3808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620120" y="6461280"/>
            <a:ext cx="380880" cy="3808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229600" y="6461280"/>
            <a:ext cx="380880" cy="3808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763120" y="6461280"/>
            <a:ext cx="380880" cy="3808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648320" y="6461280"/>
            <a:ext cx="380880" cy="3808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257800" y="6461280"/>
            <a:ext cx="380880" cy="3808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867280" y="6461280"/>
            <a:ext cx="381240" cy="3808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477120" y="6461280"/>
            <a:ext cx="380880" cy="3808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6461280"/>
            <a:ext cx="380880" cy="3808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95480" y="6461280"/>
            <a:ext cx="381240" cy="3808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505320" y="6461280"/>
            <a:ext cx="380880" cy="3808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114800" y="6461280"/>
            <a:ext cx="380880" cy="3808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6461280"/>
            <a:ext cx="380880" cy="3808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33520" y="6461280"/>
            <a:ext cx="380880" cy="3808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143000" y="6461280"/>
            <a:ext cx="380880" cy="3808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752480" y="6461280"/>
            <a:ext cx="381240" cy="3808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4" name=""/>
          <p:cNvCxnSpPr>
            <a:stCxn id="690" idx="6"/>
            <a:endCxn id="691" idx="2"/>
          </p:cNvCxnSpPr>
          <p:nvPr/>
        </p:nvCxnSpPr>
        <p:spPr>
          <a:xfrm>
            <a:off x="380880" y="665136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695" name=""/>
          <p:cNvCxnSpPr>
            <a:stCxn id="691" idx="6"/>
            <a:endCxn id="692" idx="2"/>
          </p:cNvCxnSpPr>
          <p:nvPr/>
        </p:nvCxnSpPr>
        <p:spPr>
          <a:xfrm>
            <a:off x="914040" y="66513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696" name=""/>
          <p:cNvCxnSpPr>
            <a:stCxn id="692" idx="6"/>
            <a:endCxn id="693" idx="2"/>
          </p:cNvCxnSpPr>
          <p:nvPr/>
        </p:nvCxnSpPr>
        <p:spPr>
          <a:xfrm>
            <a:off x="1523520" y="66513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697" name=""/>
          <p:cNvCxnSpPr>
            <a:stCxn id="693" idx="6"/>
            <a:endCxn id="686" idx="2"/>
          </p:cNvCxnSpPr>
          <p:nvPr/>
        </p:nvCxnSpPr>
        <p:spPr>
          <a:xfrm>
            <a:off x="2133360" y="66513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698" name=""/>
          <p:cNvCxnSpPr>
            <a:stCxn id="686" idx="6"/>
            <a:endCxn id="687" idx="2"/>
          </p:cNvCxnSpPr>
          <p:nvPr/>
        </p:nvCxnSpPr>
        <p:spPr>
          <a:xfrm>
            <a:off x="2742840" y="665136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699" name=""/>
          <p:cNvCxnSpPr>
            <a:stCxn id="687" idx="6"/>
            <a:endCxn id="688" idx="2"/>
          </p:cNvCxnSpPr>
          <p:nvPr/>
        </p:nvCxnSpPr>
        <p:spPr>
          <a:xfrm>
            <a:off x="3276360" y="66513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00" name=""/>
          <p:cNvCxnSpPr>
            <a:stCxn id="688" idx="6"/>
            <a:endCxn id="689" idx="2"/>
          </p:cNvCxnSpPr>
          <p:nvPr/>
        </p:nvCxnSpPr>
        <p:spPr>
          <a:xfrm>
            <a:off x="3885840" y="66513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01" name=""/>
          <p:cNvCxnSpPr>
            <a:stCxn id="689" idx="6"/>
            <a:endCxn id="682" idx="2"/>
          </p:cNvCxnSpPr>
          <p:nvPr/>
        </p:nvCxnSpPr>
        <p:spPr>
          <a:xfrm>
            <a:off x="4495680" y="665136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02" name=""/>
          <p:cNvCxnSpPr>
            <a:stCxn id="682" idx="6"/>
            <a:endCxn id="683" idx="2"/>
          </p:cNvCxnSpPr>
          <p:nvPr/>
        </p:nvCxnSpPr>
        <p:spPr>
          <a:xfrm>
            <a:off x="5028840" y="66513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03" name=""/>
          <p:cNvCxnSpPr>
            <a:stCxn id="683" idx="6"/>
            <a:endCxn id="684" idx="2"/>
          </p:cNvCxnSpPr>
          <p:nvPr/>
        </p:nvCxnSpPr>
        <p:spPr>
          <a:xfrm>
            <a:off x="5638320" y="66513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04" name=""/>
          <p:cNvCxnSpPr>
            <a:stCxn id="684" idx="6"/>
            <a:endCxn id="685" idx="2"/>
          </p:cNvCxnSpPr>
          <p:nvPr/>
        </p:nvCxnSpPr>
        <p:spPr>
          <a:xfrm>
            <a:off x="6248160" y="66513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05" name=""/>
          <p:cNvCxnSpPr>
            <a:stCxn id="685" idx="6"/>
            <a:endCxn id="678" idx="2"/>
          </p:cNvCxnSpPr>
          <p:nvPr/>
        </p:nvCxnSpPr>
        <p:spPr>
          <a:xfrm>
            <a:off x="6857640" y="665136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06" name=""/>
          <p:cNvCxnSpPr>
            <a:stCxn id="678" idx="6"/>
            <a:endCxn id="679" idx="2"/>
          </p:cNvCxnSpPr>
          <p:nvPr/>
        </p:nvCxnSpPr>
        <p:spPr>
          <a:xfrm>
            <a:off x="7391160" y="66513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07" name=""/>
          <p:cNvCxnSpPr>
            <a:stCxn id="679" idx="6"/>
            <a:endCxn id="680" idx="2"/>
          </p:cNvCxnSpPr>
          <p:nvPr/>
        </p:nvCxnSpPr>
        <p:spPr>
          <a:xfrm>
            <a:off x="8000640" y="66513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08" name=""/>
          <p:cNvCxnSpPr>
            <a:stCxn id="680" idx="6"/>
            <a:endCxn id="681" idx="2"/>
          </p:cNvCxnSpPr>
          <p:nvPr/>
        </p:nvCxnSpPr>
        <p:spPr>
          <a:xfrm>
            <a:off x="8610480" y="6651360"/>
            <a:ext cx="15336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709" name=""/>
          <p:cNvSpPr/>
          <p:nvPr/>
        </p:nvSpPr>
        <p:spPr>
          <a:xfrm>
            <a:off x="1071360" y="501336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61520" y="501336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680840" y="501336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290320" y="501336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823840" y="501336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433320" y="501336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043160" y="501336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576320" y="501336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799600" y="501336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189760" y="501336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409080" y="501336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42600" y="501336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161560" y="501336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552080" y="501336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695080" y="501336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4" name=""/>
          <p:cNvCxnSpPr>
            <a:stCxn id="567" idx="4"/>
          </p:cNvCxnSpPr>
          <p:nvPr/>
        </p:nvCxnSpPr>
        <p:spPr>
          <a:xfrm>
            <a:off x="190440" y="2117520"/>
            <a:ext cx="388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25" name=""/>
          <p:cNvCxnSpPr>
            <a:stCxn id="587" idx="2"/>
            <a:endCxn id="691" idx="0"/>
          </p:cNvCxnSpPr>
          <p:nvPr/>
        </p:nvCxnSpPr>
        <p:spPr>
          <a:xfrm>
            <a:off x="696600" y="213336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569" idx="4"/>
            <a:endCxn id="692" idx="0"/>
          </p:cNvCxnSpPr>
          <p:nvPr/>
        </p:nvCxnSpPr>
        <p:spPr>
          <a:xfrm>
            <a:off x="1333080" y="2117520"/>
            <a:ext cx="10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27" name=""/>
          <p:cNvCxnSpPr>
            <a:stCxn id="588" idx="2"/>
            <a:endCxn id="693" idx="0"/>
          </p:cNvCxnSpPr>
          <p:nvPr/>
        </p:nvCxnSpPr>
        <p:spPr>
          <a:xfrm>
            <a:off x="1915920" y="213336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28" name=""/>
          <p:cNvCxnSpPr>
            <a:stCxn id="589" idx="2"/>
            <a:endCxn id="686" idx="0"/>
          </p:cNvCxnSpPr>
          <p:nvPr/>
        </p:nvCxnSpPr>
        <p:spPr>
          <a:xfrm>
            <a:off x="2525400" y="213336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29" name=""/>
          <p:cNvCxnSpPr>
            <a:stCxn id="590" idx="2"/>
            <a:endCxn id="687" idx="0"/>
          </p:cNvCxnSpPr>
          <p:nvPr/>
        </p:nvCxnSpPr>
        <p:spPr>
          <a:xfrm>
            <a:off x="3058920" y="213336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30" name=""/>
          <p:cNvCxnSpPr>
            <a:stCxn id="591" idx="2"/>
            <a:endCxn id="688" idx="0"/>
          </p:cNvCxnSpPr>
          <p:nvPr/>
        </p:nvCxnSpPr>
        <p:spPr>
          <a:xfrm>
            <a:off x="3668400" y="213336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31" name=""/>
          <p:cNvCxnSpPr>
            <a:stCxn id="592" idx="2"/>
            <a:endCxn id="689" idx="0"/>
          </p:cNvCxnSpPr>
          <p:nvPr/>
        </p:nvCxnSpPr>
        <p:spPr>
          <a:xfrm>
            <a:off x="4277880" y="213336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32" name=""/>
          <p:cNvCxnSpPr>
            <a:stCxn id="593" idx="2"/>
            <a:endCxn id="682" idx="0"/>
          </p:cNvCxnSpPr>
          <p:nvPr/>
        </p:nvCxnSpPr>
        <p:spPr>
          <a:xfrm>
            <a:off x="4811400" y="213336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595" idx="2"/>
            <a:endCxn id="683" idx="0"/>
          </p:cNvCxnSpPr>
          <p:nvPr/>
        </p:nvCxnSpPr>
        <p:spPr>
          <a:xfrm flipH="1">
            <a:off x="5447880" y="213336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34" name=""/>
          <p:cNvCxnSpPr>
            <a:stCxn id="561" idx="4"/>
            <a:endCxn id="684" idx="0"/>
          </p:cNvCxnSpPr>
          <p:nvPr/>
        </p:nvCxnSpPr>
        <p:spPr>
          <a:xfrm>
            <a:off x="6057720" y="2117520"/>
            <a:ext cx="10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35" name=""/>
          <p:cNvCxnSpPr>
            <a:stCxn id="596" idx="2"/>
            <a:endCxn id="685" idx="0"/>
          </p:cNvCxnSpPr>
          <p:nvPr/>
        </p:nvCxnSpPr>
        <p:spPr>
          <a:xfrm flipH="1">
            <a:off x="6667200" y="213336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36" name=""/>
          <p:cNvCxnSpPr>
            <a:stCxn id="597" idx="2"/>
            <a:endCxn id="678" idx="0"/>
          </p:cNvCxnSpPr>
          <p:nvPr/>
        </p:nvCxnSpPr>
        <p:spPr>
          <a:xfrm flipH="1">
            <a:off x="7200360" y="2133360"/>
            <a:ext cx="1476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37" name=""/>
          <p:cNvCxnSpPr>
            <a:stCxn id="599" idx="2"/>
            <a:endCxn id="679" idx="0"/>
          </p:cNvCxnSpPr>
          <p:nvPr/>
        </p:nvCxnSpPr>
        <p:spPr>
          <a:xfrm flipH="1">
            <a:off x="7810200" y="213336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38" name=""/>
          <p:cNvCxnSpPr>
            <a:stCxn id="598" idx="2"/>
            <a:endCxn id="680" idx="0"/>
          </p:cNvCxnSpPr>
          <p:nvPr/>
        </p:nvCxnSpPr>
        <p:spPr>
          <a:xfrm flipH="1">
            <a:off x="8419680" y="213336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39" name=""/>
          <p:cNvCxnSpPr>
            <a:stCxn id="600" idx="2"/>
            <a:endCxn id="681" idx="0"/>
          </p:cNvCxnSpPr>
          <p:nvPr/>
        </p:nvCxnSpPr>
        <p:spPr>
          <a:xfrm>
            <a:off x="8947080" y="2133360"/>
            <a:ext cx="720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40" name=""/>
          <p:cNvCxnSpPr>
            <a:stCxn id="613" idx="4"/>
            <a:endCxn id="690" idx="1"/>
          </p:cNvCxnSpPr>
          <p:nvPr/>
        </p:nvCxnSpPr>
        <p:spPr>
          <a:xfrm flipH="1">
            <a:off x="54720" y="379368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741" name=""/>
          <p:cNvCxnSpPr>
            <a:stCxn id="633" idx="2"/>
          </p:cNvCxnSpPr>
          <p:nvPr/>
        </p:nvCxnSpPr>
        <p:spPr>
          <a:xfrm flipH="1">
            <a:off x="610920" y="3809880"/>
            <a:ext cx="86400" cy="268704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742" name=""/>
          <p:cNvCxnSpPr>
            <a:stCxn id="632" idx="2"/>
            <a:endCxn id="692" idx="1"/>
          </p:cNvCxnSpPr>
          <p:nvPr/>
        </p:nvCxnSpPr>
        <p:spPr>
          <a:xfrm flipH="1">
            <a:off x="1198080" y="380952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743" name=""/>
          <p:cNvCxnSpPr>
            <a:stCxn id="634" idx="2"/>
            <a:endCxn id="693" idx="1"/>
          </p:cNvCxnSpPr>
          <p:nvPr/>
        </p:nvCxnSpPr>
        <p:spPr>
          <a:xfrm flipH="1">
            <a:off x="1807920" y="380952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744" name=""/>
          <p:cNvCxnSpPr>
            <a:stCxn id="635" idx="2"/>
            <a:endCxn id="686" idx="1"/>
          </p:cNvCxnSpPr>
          <p:nvPr/>
        </p:nvCxnSpPr>
        <p:spPr>
          <a:xfrm flipH="1">
            <a:off x="2417400" y="380952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745" name=""/>
          <p:cNvCxnSpPr>
            <a:stCxn id="636" idx="2"/>
            <a:endCxn id="687" idx="1"/>
          </p:cNvCxnSpPr>
          <p:nvPr/>
        </p:nvCxnSpPr>
        <p:spPr>
          <a:xfrm flipH="1">
            <a:off x="2950920" y="380952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746" name=""/>
          <p:cNvCxnSpPr>
            <a:stCxn id="637" idx="2"/>
            <a:endCxn id="688" idx="1"/>
          </p:cNvCxnSpPr>
          <p:nvPr/>
        </p:nvCxnSpPr>
        <p:spPr>
          <a:xfrm flipH="1">
            <a:off x="3560400" y="380952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747" name=""/>
          <p:cNvCxnSpPr>
            <a:stCxn id="612" idx="4"/>
            <a:endCxn id="689" idx="1"/>
          </p:cNvCxnSpPr>
          <p:nvPr/>
        </p:nvCxnSpPr>
        <p:spPr>
          <a:xfrm flipH="1">
            <a:off x="4169520" y="379368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748" name=""/>
          <p:cNvCxnSpPr>
            <a:stCxn id="639" idx="2"/>
            <a:endCxn id="682" idx="1"/>
          </p:cNvCxnSpPr>
          <p:nvPr/>
        </p:nvCxnSpPr>
        <p:spPr>
          <a:xfrm flipH="1">
            <a:off x="4703400" y="380952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749" name=""/>
          <p:cNvCxnSpPr>
            <a:stCxn id="641" idx="2"/>
            <a:endCxn id="683" idx="1"/>
          </p:cNvCxnSpPr>
          <p:nvPr/>
        </p:nvCxnSpPr>
        <p:spPr>
          <a:xfrm flipH="1">
            <a:off x="5312520" y="380952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750" name=""/>
          <p:cNvCxnSpPr>
            <a:stCxn id="640" idx="2"/>
            <a:endCxn id="684" idx="1"/>
          </p:cNvCxnSpPr>
          <p:nvPr/>
        </p:nvCxnSpPr>
        <p:spPr>
          <a:xfrm flipH="1">
            <a:off x="5922720" y="3809520"/>
            <a:ext cx="14976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751" name=""/>
          <p:cNvCxnSpPr>
            <a:stCxn id="642" idx="2"/>
            <a:endCxn id="685" idx="1"/>
          </p:cNvCxnSpPr>
          <p:nvPr/>
        </p:nvCxnSpPr>
        <p:spPr>
          <a:xfrm flipH="1">
            <a:off x="6531840" y="380952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752" name=""/>
          <p:cNvCxnSpPr>
            <a:stCxn id="643" idx="2"/>
            <a:endCxn id="678" idx="1"/>
          </p:cNvCxnSpPr>
          <p:nvPr/>
        </p:nvCxnSpPr>
        <p:spPr>
          <a:xfrm flipH="1">
            <a:off x="7065720" y="3809520"/>
            <a:ext cx="14976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753" name=""/>
          <p:cNvCxnSpPr>
            <a:stCxn id="602" idx="4"/>
            <a:endCxn id="679" idx="1"/>
          </p:cNvCxnSpPr>
          <p:nvPr/>
        </p:nvCxnSpPr>
        <p:spPr>
          <a:xfrm flipH="1">
            <a:off x="7674840" y="379368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754" name=""/>
          <p:cNvCxnSpPr>
            <a:stCxn id="644" idx="2"/>
            <a:endCxn id="680" idx="1"/>
          </p:cNvCxnSpPr>
          <p:nvPr/>
        </p:nvCxnSpPr>
        <p:spPr>
          <a:xfrm flipH="1">
            <a:off x="8284320" y="380952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755" name=""/>
          <p:cNvCxnSpPr>
            <a:stCxn id="646" idx="2"/>
            <a:endCxn id="681" idx="1"/>
          </p:cNvCxnSpPr>
          <p:nvPr/>
        </p:nvCxnSpPr>
        <p:spPr>
          <a:xfrm flipH="1">
            <a:off x="8817840" y="3809520"/>
            <a:ext cx="12924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756" name=""/>
          <p:cNvCxnSpPr>
            <a:stCxn id="659" idx="4"/>
            <a:endCxn id="690" idx="7"/>
          </p:cNvCxnSpPr>
          <p:nvPr/>
        </p:nvCxnSpPr>
        <p:spPr>
          <a:xfrm>
            <a:off x="190080" y="539424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57" name=""/>
          <p:cNvCxnSpPr>
            <a:stCxn id="660" idx="4"/>
            <a:endCxn id="691" idx="7"/>
          </p:cNvCxnSpPr>
          <p:nvPr/>
        </p:nvCxnSpPr>
        <p:spPr>
          <a:xfrm>
            <a:off x="723600" y="539424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58" name=""/>
          <p:cNvCxnSpPr>
            <a:stCxn id="709" idx="2"/>
            <a:endCxn id="692" idx="7"/>
          </p:cNvCxnSpPr>
          <p:nvPr/>
        </p:nvCxnSpPr>
        <p:spPr>
          <a:xfrm>
            <a:off x="1306440" y="541008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59" name=""/>
          <p:cNvCxnSpPr>
            <a:stCxn id="711" idx="2"/>
            <a:endCxn id="693" idx="7"/>
          </p:cNvCxnSpPr>
          <p:nvPr/>
        </p:nvCxnSpPr>
        <p:spPr>
          <a:xfrm>
            <a:off x="1915920" y="5410080"/>
            <a:ext cx="16236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12" idx="2"/>
            <a:endCxn id="686" idx="7"/>
          </p:cNvCxnSpPr>
          <p:nvPr/>
        </p:nvCxnSpPr>
        <p:spPr>
          <a:xfrm>
            <a:off x="2525760" y="541008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13" idx="2"/>
            <a:endCxn id="687" idx="7"/>
          </p:cNvCxnSpPr>
          <p:nvPr/>
        </p:nvCxnSpPr>
        <p:spPr>
          <a:xfrm>
            <a:off x="3058920" y="5410080"/>
            <a:ext cx="16236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14" idx="2"/>
            <a:endCxn id="688" idx="7"/>
          </p:cNvCxnSpPr>
          <p:nvPr/>
        </p:nvCxnSpPr>
        <p:spPr>
          <a:xfrm>
            <a:off x="3668760" y="541008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658" idx="4"/>
            <a:endCxn id="689" idx="7"/>
          </p:cNvCxnSpPr>
          <p:nvPr/>
        </p:nvCxnSpPr>
        <p:spPr>
          <a:xfrm>
            <a:off x="4304880" y="539424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651" idx="4"/>
            <a:endCxn id="682" idx="7"/>
          </p:cNvCxnSpPr>
          <p:nvPr/>
        </p:nvCxnSpPr>
        <p:spPr>
          <a:xfrm>
            <a:off x="4838400" y="539424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652" idx="4"/>
            <a:endCxn id="683" idx="7"/>
          </p:cNvCxnSpPr>
          <p:nvPr/>
        </p:nvCxnSpPr>
        <p:spPr>
          <a:xfrm>
            <a:off x="5447880" y="539424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66" name=""/>
          <p:cNvCxnSpPr>
            <a:stCxn id="717" idx="2"/>
            <a:endCxn id="684" idx="7"/>
          </p:cNvCxnSpPr>
          <p:nvPr/>
        </p:nvCxnSpPr>
        <p:spPr>
          <a:xfrm>
            <a:off x="6071760" y="541008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67" name=""/>
          <p:cNvCxnSpPr>
            <a:stCxn id="719" idx="2"/>
            <a:endCxn id="685" idx="7"/>
          </p:cNvCxnSpPr>
          <p:nvPr/>
        </p:nvCxnSpPr>
        <p:spPr>
          <a:xfrm>
            <a:off x="6681600" y="541008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68" name=""/>
          <p:cNvCxnSpPr>
            <a:stCxn id="720" idx="2"/>
            <a:endCxn id="678" idx="7"/>
          </p:cNvCxnSpPr>
          <p:nvPr/>
        </p:nvCxnSpPr>
        <p:spPr>
          <a:xfrm>
            <a:off x="7214760" y="541008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69" name=""/>
          <p:cNvCxnSpPr>
            <a:stCxn id="722" idx="2"/>
            <a:endCxn id="679" idx="7"/>
          </p:cNvCxnSpPr>
          <p:nvPr/>
        </p:nvCxnSpPr>
        <p:spPr>
          <a:xfrm>
            <a:off x="7824600" y="541008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70" name=""/>
          <p:cNvCxnSpPr>
            <a:stCxn id="721" idx="2"/>
            <a:endCxn id="680" idx="7"/>
          </p:cNvCxnSpPr>
          <p:nvPr/>
        </p:nvCxnSpPr>
        <p:spPr>
          <a:xfrm>
            <a:off x="8434080" y="541008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71" name=""/>
          <p:cNvCxnSpPr>
            <a:stCxn id="723" idx="2"/>
            <a:endCxn id="681" idx="7"/>
          </p:cNvCxnSpPr>
          <p:nvPr/>
        </p:nvCxnSpPr>
        <p:spPr>
          <a:xfrm>
            <a:off x="8967600" y="541008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sp>
        <p:nvSpPr>
          <p:cNvPr id="772" name=""/>
          <p:cNvSpPr/>
          <p:nvPr/>
        </p:nvSpPr>
        <p:spPr>
          <a:xfrm>
            <a:off x="70102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620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2296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763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648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2578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672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477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362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8954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505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1148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1430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524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07244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26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68192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291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82492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434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04424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577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74488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13540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35472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88788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810720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749772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61984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0"/>
            <a:ext cx="380880" cy="380880"/>
          </a:xfrm>
          <a:prstGeom prst="ellipse">
            <a:avLst/>
          </a:prstGeom>
          <a:solidFill>
            <a:srgbClr val="c18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192920" y="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505320" y="76212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105520" y="762120"/>
            <a:ext cx="380880" cy="3808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30280" y="7621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430080" y="762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200400" y="2362320"/>
            <a:ext cx="380880" cy="3808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62720" y="2362320"/>
            <a:ext cx="380880" cy="3808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487480" y="2362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125520" y="2362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200400" y="3962520"/>
            <a:ext cx="380880" cy="3808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62720" y="3962520"/>
            <a:ext cx="380880" cy="3808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487480" y="3962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125520" y="3962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B448-66F1-4AB3-A368-2825605FF8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70102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620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82296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8763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648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2578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8672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477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362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8954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505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1148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335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1430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7524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4" name=""/>
          <p:cNvCxnSpPr>
            <a:stCxn id="830" idx="6"/>
            <a:endCxn id="831" idx="2"/>
          </p:cNvCxnSpPr>
          <p:nvPr/>
        </p:nvCxnSpPr>
        <p:spPr>
          <a:xfrm>
            <a:off x="3808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831" idx="6"/>
            <a:endCxn id="832" idx="2"/>
          </p:cNvCxnSpPr>
          <p:nvPr/>
        </p:nvCxnSpPr>
        <p:spPr>
          <a:xfrm>
            <a:off x="9140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832" idx="6"/>
            <a:endCxn id="833" idx="2"/>
          </p:cNvCxnSpPr>
          <p:nvPr/>
        </p:nvCxnSpPr>
        <p:spPr>
          <a:xfrm>
            <a:off x="152352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833" idx="6"/>
            <a:endCxn id="826" idx="2"/>
          </p:cNvCxnSpPr>
          <p:nvPr/>
        </p:nvCxnSpPr>
        <p:spPr>
          <a:xfrm>
            <a:off x="21333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826" idx="6"/>
            <a:endCxn id="827" idx="2"/>
          </p:cNvCxnSpPr>
          <p:nvPr/>
        </p:nvCxnSpPr>
        <p:spPr>
          <a:xfrm>
            <a:off x="2742840" y="19429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827" idx="6"/>
            <a:endCxn id="828" idx="2"/>
          </p:cNvCxnSpPr>
          <p:nvPr/>
        </p:nvCxnSpPr>
        <p:spPr>
          <a:xfrm>
            <a:off x="32763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28" idx="6"/>
            <a:endCxn id="829" idx="2"/>
          </p:cNvCxnSpPr>
          <p:nvPr/>
        </p:nvCxnSpPr>
        <p:spPr>
          <a:xfrm>
            <a:off x="38858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29" idx="6"/>
            <a:endCxn id="822" idx="2"/>
          </p:cNvCxnSpPr>
          <p:nvPr/>
        </p:nvCxnSpPr>
        <p:spPr>
          <a:xfrm>
            <a:off x="44956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822" idx="6"/>
            <a:endCxn id="823" idx="2"/>
          </p:cNvCxnSpPr>
          <p:nvPr/>
        </p:nvCxnSpPr>
        <p:spPr>
          <a:xfrm>
            <a:off x="50288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823" idx="6"/>
            <a:endCxn id="824" idx="2"/>
          </p:cNvCxnSpPr>
          <p:nvPr/>
        </p:nvCxnSpPr>
        <p:spPr>
          <a:xfrm>
            <a:off x="563832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24" idx="6"/>
            <a:endCxn id="825" idx="2"/>
          </p:cNvCxnSpPr>
          <p:nvPr/>
        </p:nvCxnSpPr>
        <p:spPr>
          <a:xfrm>
            <a:off x="62481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25" idx="6"/>
            <a:endCxn id="818" idx="2"/>
          </p:cNvCxnSpPr>
          <p:nvPr/>
        </p:nvCxnSpPr>
        <p:spPr>
          <a:xfrm>
            <a:off x="6857640" y="19429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8" idx="6"/>
            <a:endCxn id="819" idx="2"/>
          </p:cNvCxnSpPr>
          <p:nvPr/>
        </p:nvCxnSpPr>
        <p:spPr>
          <a:xfrm>
            <a:off x="73911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19" idx="6"/>
            <a:endCxn id="820" idx="2"/>
          </p:cNvCxnSpPr>
          <p:nvPr/>
        </p:nvCxnSpPr>
        <p:spPr>
          <a:xfrm>
            <a:off x="80006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0" idx="6"/>
            <a:endCxn id="821" idx="2"/>
          </p:cNvCxnSpPr>
          <p:nvPr/>
        </p:nvCxnSpPr>
        <p:spPr>
          <a:xfrm>
            <a:off x="86104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849" name=""/>
          <p:cNvSpPr/>
          <p:nvPr/>
        </p:nvSpPr>
        <p:spPr>
          <a:xfrm>
            <a:off x="107136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615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68084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290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2384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433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04316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576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79960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1897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40908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94260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1615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55208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86745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0102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82296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8763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648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2578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672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477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362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505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1148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335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1430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7524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0" name=""/>
          <p:cNvCxnSpPr>
            <a:stCxn id="876" idx="6"/>
            <a:endCxn id="877" idx="2"/>
          </p:cNvCxnSpPr>
          <p:nvPr/>
        </p:nvCxnSpPr>
        <p:spPr>
          <a:xfrm>
            <a:off x="3808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81" name=""/>
          <p:cNvCxnSpPr>
            <a:stCxn id="877" idx="6"/>
            <a:endCxn id="878" idx="2"/>
          </p:cNvCxnSpPr>
          <p:nvPr/>
        </p:nvCxnSpPr>
        <p:spPr>
          <a:xfrm>
            <a:off x="9140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82" name=""/>
          <p:cNvCxnSpPr>
            <a:stCxn id="878" idx="6"/>
            <a:endCxn id="879" idx="2"/>
          </p:cNvCxnSpPr>
          <p:nvPr/>
        </p:nvCxnSpPr>
        <p:spPr>
          <a:xfrm>
            <a:off x="152352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83" name=""/>
          <p:cNvCxnSpPr>
            <a:stCxn id="879" idx="6"/>
            <a:endCxn id="872" idx="2"/>
          </p:cNvCxnSpPr>
          <p:nvPr/>
        </p:nvCxnSpPr>
        <p:spPr>
          <a:xfrm>
            <a:off x="21333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84" name=""/>
          <p:cNvCxnSpPr>
            <a:stCxn id="872" idx="6"/>
            <a:endCxn id="873" idx="2"/>
          </p:cNvCxnSpPr>
          <p:nvPr/>
        </p:nvCxnSpPr>
        <p:spPr>
          <a:xfrm>
            <a:off x="2742840" y="361908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85" name=""/>
          <p:cNvCxnSpPr>
            <a:stCxn id="873" idx="6"/>
            <a:endCxn id="874" idx="2"/>
          </p:cNvCxnSpPr>
          <p:nvPr/>
        </p:nvCxnSpPr>
        <p:spPr>
          <a:xfrm>
            <a:off x="32763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86" name=""/>
          <p:cNvCxnSpPr>
            <a:stCxn id="874" idx="6"/>
            <a:endCxn id="875" idx="2"/>
          </p:cNvCxnSpPr>
          <p:nvPr/>
        </p:nvCxnSpPr>
        <p:spPr>
          <a:xfrm>
            <a:off x="38858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87" name=""/>
          <p:cNvCxnSpPr>
            <a:stCxn id="875" idx="6"/>
            <a:endCxn id="868" idx="2"/>
          </p:cNvCxnSpPr>
          <p:nvPr/>
        </p:nvCxnSpPr>
        <p:spPr>
          <a:xfrm>
            <a:off x="44956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88" name=""/>
          <p:cNvCxnSpPr>
            <a:stCxn id="868" idx="6"/>
            <a:endCxn id="869" idx="2"/>
          </p:cNvCxnSpPr>
          <p:nvPr/>
        </p:nvCxnSpPr>
        <p:spPr>
          <a:xfrm>
            <a:off x="50288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89" name=""/>
          <p:cNvCxnSpPr>
            <a:stCxn id="869" idx="6"/>
            <a:endCxn id="870" idx="2"/>
          </p:cNvCxnSpPr>
          <p:nvPr/>
        </p:nvCxnSpPr>
        <p:spPr>
          <a:xfrm>
            <a:off x="563832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90" name=""/>
          <p:cNvCxnSpPr>
            <a:stCxn id="870" idx="6"/>
            <a:endCxn id="871" idx="2"/>
          </p:cNvCxnSpPr>
          <p:nvPr/>
        </p:nvCxnSpPr>
        <p:spPr>
          <a:xfrm>
            <a:off x="62481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91" name=""/>
          <p:cNvCxnSpPr>
            <a:stCxn id="871" idx="6"/>
            <a:endCxn id="864" idx="2"/>
          </p:cNvCxnSpPr>
          <p:nvPr/>
        </p:nvCxnSpPr>
        <p:spPr>
          <a:xfrm>
            <a:off x="6857640" y="361908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92" name=""/>
          <p:cNvCxnSpPr>
            <a:stCxn id="864" idx="6"/>
            <a:endCxn id="865" idx="2"/>
          </p:cNvCxnSpPr>
          <p:nvPr/>
        </p:nvCxnSpPr>
        <p:spPr>
          <a:xfrm>
            <a:off x="73911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93" name=""/>
          <p:cNvCxnSpPr>
            <a:stCxn id="865" idx="6"/>
            <a:endCxn id="866" idx="2"/>
          </p:cNvCxnSpPr>
          <p:nvPr/>
        </p:nvCxnSpPr>
        <p:spPr>
          <a:xfrm>
            <a:off x="80006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94" name=""/>
          <p:cNvCxnSpPr>
            <a:stCxn id="866" idx="6"/>
            <a:endCxn id="867" idx="2"/>
          </p:cNvCxnSpPr>
          <p:nvPr/>
        </p:nvCxnSpPr>
        <p:spPr>
          <a:xfrm>
            <a:off x="86104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sp>
        <p:nvSpPr>
          <p:cNvPr id="895" name=""/>
          <p:cNvSpPr/>
          <p:nvPr/>
        </p:nvSpPr>
        <p:spPr>
          <a:xfrm>
            <a:off x="107136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615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68084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290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82384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433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04316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6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79960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1897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40908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94260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81615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55208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6745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70102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620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82296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8763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648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2578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672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477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362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8954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505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1148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335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1430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7524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6" name=""/>
          <p:cNvCxnSpPr>
            <a:stCxn id="922" idx="6"/>
            <a:endCxn id="923" idx="2"/>
          </p:cNvCxnSpPr>
          <p:nvPr/>
        </p:nvCxnSpPr>
        <p:spPr>
          <a:xfrm>
            <a:off x="3808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23" idx="6"/>
            <a:endCxn id="924" idx="2"/>
          </p:cNvCxnSpPr>
          <p:nvPr/>
        </p:nvCxnSpPr>
        <p:spPr>
          <a:xfrm>
            <a:off x="9140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24" idx="6"/>
            <a:endCxn id="925" idx="2"/>
          </p:cNvCxnSpPr>
          <p:nvPr/>
        </p:nvCxnSpPr>
        <p:spPr>
          <a:xfrm>
            <a:off x="152352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5" idx="6"/>
            <a:endCxn id="918" idx="2"/>
          </p:cNvCxnSpPr>
          <p:nvPr/>
        </p:nvCxnSpPr>
        <p:spPr>
          <a:xfrm>
            <a:off x="21333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18" idx="6"/>
            <a:endCxn id="919" idx="2"/>
          </p:cNvCxnSpPr>
          <p:nvPr/>
        </p:nvCxnSpPr>
        <p:spPr>
          <a:xfrm>
            <a:off x="2742840" y="521928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19" idx="6"/>
            <a:endCxn id="920" idx="2"/>
          </p:cNvCxnSpPr>
          <p:nvPr/>
        </p:nvCxnSpPr>
        <p:spPr>
          <a:xfrm>
            <a:off x="32763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932" name=""/>
          <p:cNvCxnSpPr>
            <a:stCxn id="920" idx="6"/>
            <a:endCxn id="921" idx="2"/>
          </p:cNvCxnSpPr>
          <p:nvPr/>
        </p:nvCxnSpPr>
        <p:spPr>
          <a:xfrm>
            <a:off x="38858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933" name=""/>
          <p:cNvCxnSpPr>
            <a:stCxn id="921" idx="6"/>
            <a:endCxn id="914" idx="2"/>
          </p:cNvCxnSpPr>
          <p:nvPr/>
        </p:nvCxnSpPr>
        <p:spPr>
          <a:xfrm>
            <a:off x="44956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934" name=""/>
          <p:cNvCxnSpPr>
            <a:stCxn id="914" idx="6"/>
            <a:endCxn id="915" idx="2"/>
          </p:cNvCxnSpPr>
          <p:nvPr/>
        </p:nvCxnSpPr>
        <p:spPr>
          <a:xfrm>
            <a:off x="50288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935" name=""/>
          <p:cNvCxnSpPr>
            <a:stCxn id="915" idx="6"/>
            <a:endCxn id="916" idx="2"/>
          </p:cNvCxnSpPr>
          <p:nvPr/>
        </p:nvCxnSpPr>
        <p:spPr>
          <a:xfrm>
            <a:off x="563832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936" name=""/>
          <p:cNvCxnSpPr>
            <a:stCxn id="916" idx="6"/>
            <a:endCxn id="917" idx="2"/>
          </p:cNvCxnSpPr>
          <p:nvPr/>
        </p:nvCxnSpPr>
        <p:spPr>
          <a:xfrm>
            <a:off x="62481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937" name=""/>
          <p:cNvCxnSpPr>
            <a:stCxn id="917" idx="6"/>
            <a:endCxn id="910" idx="2"/>
          </p:cNvCxnSpPr>
          <p:nvPr/>
        </p:nvCxnSpPr>
        <p:spPr>
          <a:xfrm>
            <a:off x="6857640" y="521928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938" name=""/>
          <p:cNvCxnSpPr>
            <a:stCxn id="910" idx="6"/>
            <a:endCxn id="911" idx="2"/>
          </p:cNvCxnSpPr>
          <p:nvPr/>
        </p:nvCxnSpPr>
        <p:spPr>
          <a:xfrm>
            <a:off x="73911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939" name=""/>
          <p:cNvCxnSpPr>
            <a:stCxn id="911" idx="6"/>
            <a:endCxn id="912" idx="2"/>
          </p:cNvCxnSpPr>
          <p:nvPr/>
        </p:nvCxnSpPr>
        <p:spPr>
          <a:xfrm>
            <a:off x="80006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940" name=""/>
          <p:cNvCxnSpPr>
            <a:stCxn id="912" idx="6"/>
            <a:endCxn id="913" idx="2"/>
          </p:cNvCxnSpPr>
          <p:nvPr/>
        </p:nvCxnSpPr>
        <p:spPr>
          <a:xfrm>
            <a:off x="86104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sp>
        <p:nvSpPr>
          <p:cNvPr id="941" name=""/>
          <p:cNvSpPr/>
          <p:nvPr/>
        </p:nvSpPr>
        <p:spPr>
          <a:xfrm>
            <a:off x="70102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82296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763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648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2578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8672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477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362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954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505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1148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335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1430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7524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"/>
          <p:cNvCxnSpPr>
            <a:stCxn id="953" idx="6"/>
            <a:endCxn id="954" idx="2"/>
          </p:cNvCxnSpPr>
          <p:nvPr/>
        </p:nvCxnSpPr>
        <p:spPr>
          <a:xfrm>
            <a:off x="3808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58" name=""/>
          <p:cNvCxnSpPr>
            <a:stCxn id="954" idx="6"/>
            <a:endCxn id="955" idx="2"/>
          </p:cNvCxnSpPr>
          <p:nvPr/>
        </p:nvCxnSpPr>
        <p:spPr>
          <a:xfrm>
            <a:off x="9140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59" name=""/>
          <p:cNvCxnSpPr>
            <a:stCxn id="955" idx="6"/>
            <a:endCxn id="956" idx="2"/>
          </p:cNvCxnSpPr>
          <p:nvPr/>
        </p:nvCxnSpPr>
        <p:spPr>
          <a:xfrm>
            <a:off x="152352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60" name=""/>
          <p:cNvCxnSpPr>
            <a:stCxn id="956" idx="6"/>
            <a:endCxn id="949" idx="2"/>
          </p:cNvCxnSpPr>
          <p:nvPr/>
        </p:nvCxnSpPr>
        <p:spPr>
          <a:xfrm>
            <a:off x="21333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61" name=""/>
          <p:cNvCxnSpPr>
            <a:stCxn id="949" idx="6"/>
            <a:endCxn id="950" idx="2"/>
          </p:cNvCxnSpPr>
          <p:nvPr/>
        </p:nvCxnSpPr>
        <p:spPr>
          <a:xfrm>
            <a:off x="2742840" y="666720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62" name=""/>
          <p:cNvCxnSpPr>
            <a:stCxn id="950" idx="6"/>
            <a:endCxn id="951" idx="2"/>
          </p:cNvCxnSpPr>
          <p:nvPr/>
        </p:nvCxnSpPr>
        <p:spPr>
          <a:xfrm>
            <a:off x="32763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63" name=""/>
          <p:cNvCxnSpPr>
            <a:stCxn id="951" idx="6"/>
            <a:endCxn id="952" idx="2"/>
          </p:cNvCxnSpPr>
          <p:nvPr/>
        </p:nvCxnSpPr>
        <p:spPr>
          <a:xfrm>
            <a:off x="38858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64" name=""/>
          <p:cNvCxnSpPr>
            <a:stCxn id="952" idx="6"/>
            <a:endCxn id="945" idx="2"/>
          </p:cNvCxnSpPr>
          <p:nvPr/>
        </p:nvCxnSpPr>
        <p:spPr>
          <a:xfrm>
            <a:off x="44956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65" name=""/>
          <p:cNvCxnSpPr>
            <a:stCxn id="945" idx="6"/>
            <a:endCxn id="946" idx="2"/>
          </p:cNvCxnSpPr>
          <p:nvPr/>
        </p:nvCxnSpPr>
        <p:spPr>
          <a:xfrm>
            <a:off x="50288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66" name=""/>
          <p:cNvCxnSpPr>
            <a:stCxn id="946" idx="6"/>
            <a:endCxn id="947" idx="2"/>
          </p:cNvCxnSpPr>
          <p:nvPr/>
        </p:nvCxnSpPr>
        <p:spPr>
          <a:xfrm>
            <a:off x="563832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67" name=""/>
          <p:cNvCxnSpPr>
            <a:stCxn id="947" idx="6"/>
            <a:endCxn id="948" idx="2"/>
          </p:cNvCxnSpPr>
          <p:nvPr/>
        </p:nvCxnSpPr>
        <p:spPr>
          <a:xfrm>
            <a:off x="62481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68" name=""/>
          <p:cNvCxnSpPr>
            <a:stCxn id="948" idx="6"/>
            <a:endCxn id="941" idx="2"/>
          </p:cNvCxnSpPr>
          <p:nvPr/>
        </p:nvCxnSpPr>
        <p:spPr>
          <a:xfrm>
            <a:off x="6857640" y="666720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69" name=""/>
          <p:cNvCxnSpPr>
            <a:stCxn id="941" idx="6"/>
            <a:endCxn id="942" idx="2"/>
          </p:cNvCxnSpPr>
          <p:nvPr/>
        </p:nvCxnSpPr>
        <p:spPr>
          <a:xfrm>
            <a:off x="73911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70" name=""/>
          <p:cNvCxnSpPr>
            <a:stCxn id="942" idx="6"/>
            <a:endCxn id="943" idx="2"/>
          </p:cNvCxnSpPr>
          <p:nvPr/>
        </p:nvCxnSpPr>
        <p:spPr>
          <a:xfrm>
            <a:off x="80006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71" name=""/>
          <p:cNvCxnSpPr>
            <a:stCxn id="943" idx="6"/>
            <a:endCxn id="944" idx="2"/>
          </p:cNvCxnSpPr>
          <p:nvPr/>
        </p:nvCxnSpPr>
        <p:spPr>
          <a:xfrm>
            <a:off x="86104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972" name=""/>
          <p:cNvSpPr/>
          <p:nvPr/>
        </p:nvSpPr>
        <p:spPr>
          <a:xfrm>
            <a:off x="107136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615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68084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290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82384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433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04316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576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9960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18976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09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94260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816156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552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695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191120" y="0"/>
            <a:ext cx="380880" cy="380880"/>
          </a:xfrm>
          <a:prstGeom prst="ellipse">
            <a:avLst/>
          </a:prstGeom>
          <a:solidFill>
            <a:srgbClr val="c18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192920" y="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276720" y="45720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410080" y="457200"/>
            <a:ext cx="381240" cy="3808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335200" y="4572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01480" y="457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00400" y="2362320"/>
            <a:ext cx="380880" cy="3808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562720" y="2362320"/>
            <a:ext cx="380880" cy="3808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487480" y="2362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125520" y="2362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733920" y="3962520"/>
            <a:ext cx="380880" cy="3808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952880" y="3962520"/>
            <a:ext cx="381240" cy="3808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878000" y="3962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658680" y="3962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1" name=""/>
          <p:cNvCxnSpPr>
            <a:stCxn id="830" idx="4"/>
          </p:cNvCxnSpPr>
          <p:nvPr/>
        </p:nvCxnSpPr>
        <p:spPr>
          <a:xfrm>
            <a:off x="190440" y="2133360"/>
            <a:ext cx="388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02" name=""/>
          <p:cNvCxnSpPr>
            <a:stCxn id="850" idx="2"/>
            <a:endCxn id="954" idx="0"/>
          </p:cNvCxnSpPr>
          <p:nvPr/>
        </p:nvCxnSpPr>
        <p:spPr>
          <a:xfrm>
            <a:off x="6966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03" name=""/>
          <p:cNvCxnSpPr>
            <a:stCxn id="832" idx="4"/>
            <a:endCxn id="955" idx="0"/>
          </p:cNvCxnSpPr>
          <p:nvPr/>
        </p:nvCxnSpPr>
        <p:spPr>
          <a:xfrm>
            <a:off x="1333080" y="2133360"/>
            <a:ext cx="10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04" name=""/>
          <p:cNvCxnSpPr>
            <a:stCxn id="851" idx="2"/>
            <a:endCxn id="956" idx="0"/>
          </p:cNvCxnSpPr>
          <p:nvPr/>
        </p:nvCxnSpPr>
        <p:spPr>
          <a:xfrm>
            <a:off x="191592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05" name=""/>
          <p:cNvCxnSpPr>
            <a:stCxn id="852" idx="2"/>
            <a:endCxn id="949" idx="0"/>
          </p:cNvCxnSpPr>
          <p:nvPr/>
        </p:nvCxnSpPr>
        <p:spPr>
          <a:xfrm>
            <a:off x="2525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06" name=""/>
          <p:cNvCxnSpPr>
            <a:stCxn id="853" idx="2"/>
            <a:endCxn id="950" idx="0"/>
          </p:cNvCxnSpPr>
          <p:nvPr/>
        </p:nvCxnSpPr>
        <p:spPr>
          <a:xfrm>
            <a:off x="305892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07" name=""/>
          <p:cNvCxnSpPr>
            <a:stCxn id="854" idx="2"/>
            <a:endCxn id="951" idx="0"/>
          </p:cNvCxnSpPr>
          <p:nvPr/>
        </p:nvCxnSpPr>
        <p:spPr>
          <a:xfrm>
            <a:off x="3668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08" name=""/>
          <p:cNvCxnSpPr>
            <a:stCxn id="855" idx="2"/>
            <a:endCxn id="952" idx="0"/>
          </p:cNvCxnSpPr>
          <p:nvPr/>
        </p:nvCxnSpPr>
        <p:spPr>
          <a:xfrm>
            <a:off x="427788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09" name=""/>
          <p:cNvCxnSpPr>
            <a:stCxn id="856" idx="2"/>
            <a:endCxn id="945" idx="0"/>
          </p:cNvCxnSpPr>
          <p:nvPr/>
        </p:nvCxnSpPr>
        <p:spPr>
          <a:xfrm>
            <a:off x="4811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10" name=""/>
          <p:cNvCxnSpPr>
            <a:stCxn id="858" idx="2"/>
            <a:endCxn id="946" idx="0"/>
          </p:cNvCxnSpPr>
          <p:nvPr/>
        </p:nvCxnSpPr>
        <p:spPr>
          <a:xfrm flipH="1">
            <a:off x="544788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11" name=""/>
          <p:cNvCxnSpPr>
            <a:stCxn id="824" idx="4"/>
            <a:endCxn id="947" idx="0"/>
          </p:cNvCxnSpPr>
          <p:nvPr/>
        </p:nvCxnSpPr>
        <p:spPr>
          <a:xfrm>
            <a:off x="6057720" y="2133360"/>
            <a:ext cx="10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12" name=""/>
          <p:cNvCxnSpPr>
            <a:stCxn id="859" idx="2"/>
            <a:endCxn id="948" idx="0"/>
          </p:cNvCxnSpPr>
          <p:nvPr/>
        </p:nvCxnSpPr>
        <p:spPr>
          <a:xfrm flipH="1">
            <a:off x="666720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13" name=""/>
          <p:cNvCxnSpPr>
            <a:stCxn id="860" idx="2"/>
            <a:endCxn id="941" idx="0"/>
          </p:cNvCxnSpPr>
          <p:nvPr/>
        </p:nvCxnSpPr>
        <p:spPr>
          <a:xfrm flipH="1">
            <a:off x="7200360" y="2149200"/>
            <a:ext cx="1476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14" name=""/>
          <p:cNvCxnSpPr>
            <a:stCxn id="862" idx="2"/>
            <a:endCxn id="942" idx="0"/>
          </p:cNvCxnSpPr>
          <p:nvPr/>
        </p:nvCxnSpPr>
        <p:spPr>
          <a:xfrm flipH="1">
            <a:off x="781020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15" name=""/>
          <p:cNvCxnSpPr>
            <a:stCxn id="861" idx="2"/>
            <a:endCxn id="943" idx="0"/>
          </p:cNvCxnSpPr>
          <p:nvPr/>
        </p:nvCxnSpPr>
        <p:spPr>
          <a:xfrm flipH="1">
            <a:off x="841968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16" name=""/>
          <p:cNvCxnSpPr>
            <a:stCxn id="863" idx="2"/>
            <a:endCxn id="944" idx="0"/>
          </p:cNvCxnSpPr>
          <p:nvPr/>
        </p:nvCxnSpPr>
        <p:spPr>
          <a:xfrm>
            <a:off x="8947080" y="2149200"/>
            <a:ext cx="720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17" name=""/>
          <p:cNvCxnSpPr>
            <a:stCxn id="876" idx="4"/>
            <a:endCxn id="953" idx="1"/>
          </p:cNvCxnSpPr>
          <p:nvPr/>
        </p:nvCxnSpPr>
        <p:spPr>
          <a:xfrm flipH="1">
            <a:off x="5472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018" name=""/>
          <p:cNvCxnSpPr>
            <a:stCxn id="896" idx="2"/>
          </p:cNvCxnSpPr>
          <p:nvPr/>
        </p:nvCxnSpPr>
        <p:spPr>
          <a:xfrm flipH="1">
            <a:off x="610920" y="3825720"/>
            <a:ext cx="86400" cy="268704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019" name=""/>
          <p:cNvCxnSpPr>
            <a:stCxn id="895" idx="2"/>
            <a:endCxn id="955" idx="1"/>
          </p:cNvCxnSpPr>
          <p:nvPr/>
        </p:nvCxnSpPr>
        <p:spPr>
          <a:xfrm flipH="1">
            <a:off x="119808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020" name=""/>
          <p:cNvCxnSpPr>
            <a:stCxn id="897" idx="2"/>
            <a:endCxn id="956" idx="1"/>
          </p:cNvCxnSpPr>
          <p:nvPr/>
        </p:nvCxnSpPr>
        <p:spPr>
          <a:xfrm flipH="1">
            <a:off x="180792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021" name=""/>
          <p:cNvCxnSpPr>
            <a:stCxn id="898" idx="2"/>
            <a:endCxn id="949" idx="1"/>
          </p:cNvCxnSpPr>
          <p:nvPr/>
        </p:nvCxnSpPr>
        <p:spPr>
          <a:xfrm flipH="1">
            <a:off x="2417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022" name=""/>
          <p:cNvCxnSpPr>
            <a:stCxn id="899" idx="2"/>
            <a:endCxn id="950" idx="1"/>
          </p:cNvCxnSpPr>
          <p:nvPr/>
        </p:nvCxnSpPr>
        <p:spPr>
          <a:xfrm flipH="1">
            <a:off x="295092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023" name=""/>
          <p:cNvCxnSpPr>
            <a:stCxn id="900" idx="2"/>
            <a:endCxn id="951" idx="1"/>
          </p:cNvCxnSpPr>
          <p:nvPr/>
        </p:nvCxnSpPr>
        <p:spPr>
          <a:xfrm flipH="1">
            <a:off x="3560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024" name=""/>
          <p:cNvCxnSpPr>
            <a:stCxn id="875" idx="4"/>
            <a:endCxn id="952" idx="1"/>
          </p:cNvCxnSpPr>
          <p:nvPr/>
        </p:nvCxnSpPr>
        <p:spPr>
          <a:xfrm flipH="1">
            <a:off x="416952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025" name=""/>
          <p:cNvCxnSpPr>
            <a:stCxn id="902" idx="2"/>
            <a:endCxn id="945" idx="1"/>
          </p:cNvCxnSpPr>
          <p:nvPr/>
        </p:nvCxnSpPr>
        <p:spPr>
          <a:xfrm flipH="1">
            <a:off x="4703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026" name=""/>
          <p:cNvCxnSpPr>
            <a:stCxn id="904" idx="2"/>
            <a:endCxn id="946" idx="1"/>
          </p:cNvCxnSpPr>
          <p:nvPr/>
        </p:nvCxnSpPr>
        <p:spPr>
          <a:xfrm flipH="1">
            <a:off x="531252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027" name=""/>
          <p:cNvCxnSpPr>
            <a:stCxn id="903" idx="2"/>
            <a:endCxn id="947" idx="1"/>
          </p:cNvCxnSpPr>
          <p:nvPr/>
        </p:nvCxnSpPr>
        <p:spPr>
          <a:xfrm flipH="1">
            <a:off x="5922720" y="3825360"/>
            <a:ext cx="14976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028" name=""/>
          <p:cNvCxnSpPr>
            <a:stCxn id="905" idx="2"/>
            <a:endCxn id="948" idx="1"/>
          </p:cNvCxnSpPr>
          <p:nvPr/>
        </p:nvCxnSpPr>
        <p:spPr>
          <a:xfrm flipH="1">
            <a:off x="653184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029" name=""/>
          <p:cNvCxnSpPr>
            <a:stCxn id="906" idx="2"/>
            <a:endCxn id="941" idx="1"/>
          </p:cNvCxnSpPr>
          <p:nvPr/>
        </p:nvCxnSpPr>
        <p:spPr>
          <a:xfrm flipH="1">
            <a:off x="7065720" y="3825360"/>
            <a:ext cx="14976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030" name=""/>
          <p:cNvCxnSpPr>
            <a:stCxn id="865" idx="4"/>
            <a:endCxn id="942" idx="1"/>
          </p:cNvCxnSpPr>
          <p:nvPr/>
        </p:nvCxnSpPr>
        <p:spPr>
          <a:xfrm flipH="1">
            <a:off x="767484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031" name=""/>
          <p:cNvCxnSpPr>
            <a:stCxn id="907" idx="2"/>
            <a:endCxn id="943" idx="1"/>
          </p:cNvCxnSpPr>
          <p:nvPr/>
        </p:nvCxnSpPr>
        <p:spPr>
          <a:xfrm flipH="1">
            <a:off x="828432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032" name=""/>
          <p:cNvCxnSpPr>
            <a:stCxn id="909" idx="2"/>
            <a:endCxn id="944" idx="1"/>
          </p:cNvCxnSpPr>
          <p:nvPr/>
        </p:nvCxnSpPr>
        <p:spPr>
          <a:xfrm flipH="1">
            <a:off x="8817840" y="3825360"/>
            <a:ext cx="12924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033" name=""/>
          <p:cNvCxnSpPr>
            <a:stCxn id="922" idx="4"/>
            <a:endCxn id="953" idx="7"/>
          </p:cNvCxnSpPr>
          <p:nvPr/>
        </p:nvCxnSpPr>
        <p:spPr>
          <a:xfrm>
            <a:off x="1900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034" name=""/>
          <p:cNvCxnSpPr>
            <a:stCxn id="923" idx="4"/>
            <a:endCxn id="954" idx="7"/>
          </p:cNvCxnSpPr>
          <p:nvPr/>
        </p:nvCxnSpPr>
        <p:spPr>
          <a:xfrm>
            <a:off x="72360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035" name=""/>
          <p:cNvCxnSpPr>
            <a:stCxn id="972" idx="2"/>
            <a:endCxn id="955" idx="7"/>
          </p:cNvCxnSpPr>
          <p:nvPr/>
        </p:nvCxnSpPr>
        <p:spPr>
          <a:xfrm>
            <a:off x="130644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036" name=""/>
          <p:cNvCxnSpPr>
            <a:stCxn id="974" idx="2"/>
            <a:endCxn id="956" idx="7"/>
          </p:cNvCxnSpPr>
          <p:nvPr/>
        </p:nvCxnSpPr>
        <p:spPr>
          <a:xfrm>
            <a:off x="1915920" y="5425920"/>
            <a:ext cx="16236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037" name=""/>
          <p:cNvCxnSpPr>
            <a:stCxn id="975" idx="2"/>
            <a:endCxn id="949" idx="7"/>
          </p:cNvCxnSpPr>
          <p:nvPr/>
        </p:nvCxnSpPr>
        <p:spPr>
          <a:xfrm>
            <a:off x="252576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038" name=""/>
          <p:cNvCxnSpPr>
            <a:stCxn id="976" idx="2"/>
            <a:endCxn id="950" idx="7"/>
          </p:cNvCxnSpPr>
          <p:nvPr/>
        </p:nvCxnSpPr>
        <p:spPr>
          <a:xfrm>
            <a:off x="3058920" y="5425920"/>
            <a:ext cx="16236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039" name=""/>
          <p:cNvCxnSpPr>
            <a:stCxn id="977" idx="2"/>
            <a:endCxn id="951" idx="7"/>
          </p:cNvCxnSpPr>
          <p:nvPr/>
        </p:nvCxnSpPr>
        <p:spPr>
          <a:xfrm>
            <a:off x="366876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040" name=""/>
          <p:cNvCxnSpPr>
            <a:stCxn id="921" idx="4"/>
            <a:endCxn id="952" idx="7"/>
          </p:cNvCxnSpPr>
          <p:nvPr/>
        </p:nvCxnSpPr>
        <p:spPr>
          <a:xfrm>
            <a:off x="43048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041" name=""/>
          <p:cNvCxnSpPr>
            <a:stCxn id="914" idx="4"/>
            <a:endCxn id="945" idx="7"/>
          </p:cNvCxnSpPr>
          <p:nvPr/>
        </p:nvCxnSpPr>
        <p:spPr>
          <a:xfrm>
            <a:off x="483840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042" name=""/>
          <p:cNvCxnSpPr>
            <a:stCxn id="915" idx="4"/>
            <a:endCxn id="946" idx="7"/>
          </p:cNvCxnSpPr>
          <p:nvPr/>
        </p:nvCxnSpPr>
        <p:spPr>
          <a:xfrm>
            <a:off x="54478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043" name=""/>
          <p:cNvCxnSpPr>
            <a:stCxn id="980" idx="2"/>
            <a:endCxn id="947" idx="7"/>
          </p:cNvCxnSpPr>
          <p:nvPr/>
        </p:nvCxnSpPr>
        <p:spPr>
          <a:xfrm>
            <a:off x="607176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044" name=""/>
          <p:cNvCxnSpPr>
            <a:stCxn id="982" idx="2"/>
            <a:endCxn id="948" idx="7"/>
          </p:cNvCxnSpPr>
          <p:nvPr/>
        </p:nvCxnSpPr>
        <p:spPr>
          <a:xfrm>
            <a:off x="6681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045" name=""/>
          <p:cNvCxnSpPr>
            <a:stCxn id="983" idx="2"/>
            <a:endCxn id="941" idx="7"/>
          </p:cNvCxnSpPr>
          <p:nvPr/>
        </p:nvCxnSpPr>
        <p:spPr>
          <a:xfrm>
            <a:off x="721476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046" name=""/>
          <p:cNvCxnSpPr>
            <a:stCxn id="985" idx="2"/>
            <a:endCxn id="942" idx="7"/>
          </p:cNvCxnSpPr>
          <p:nvPr/>
        </p:nvCxnSpPr>
        <p:spPr>
          <a:xfrm>
            <a:off x="7824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047" name=""/>
          <p:cNvCxnSpPr>
            <a:stCxn id="984" idx="2"/>
            <a:endCxn id="943" idx="7"/>
          </p:cNvCxnSpPr>
          <p:nvPr/>
        </p:nvCxnSpPr>
        <p:spPr>
          <a:xfrm>
            <a:off x="843408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048" name=""/>
          <p:cNvCxnSpPr>
            <a:stCxn id="986" idx="2"/>
            <a:endCxn id="944" idx="7"/>
          </p:cNvCxnSpPr>
          <p:nvPr/>
        </p:nvCxnSpPr>
        <p:spPr>
          <a:xfrm>
            <a:off x="8967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049" name=""/>
          <p:cNvCxnSpPr>
            <a:stCxn id="991" idx="2"/>
            <a:endCxn id="830" idx="0"/>
          </p:cNvCxnSpPr>
          <p:nvPr/>
        </p:nvCxnSpPr>
        <p:spPr>
          <a:xfrm flipH="1">
            <a:off x="190080" y="853920"/>
            <a:ext cx="53920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50" name=""/>
          <p:cNvCxnSpPr>
            <a:stCxn id="991" idx="2"/>
            <a:endCxn id="850" idx="0"/>
          </p:cNvCxnSpPr>
          <p:nvPr/>
        </p:nvCxnSpPr>
        <p:spPr>
          <a:xfrm flipH="1">
            <a:off x="696240" y="853920"/>
            <a:ext cx="48855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51" name=""/>
          <p:cNvCxnSpPr>
            <a:stCxn id="991" idx="2"/>
            <a:endCxn id="849" idx="0"/>
          </p:cNvCxnSpPr>
          <p:nvPr/>
        </p:nvCxnSpPr>
        <p:spPr>
          <a:xfrm flipH="1">
            <a:off x="1306080" y="853920"/>
            <a:ext cx="42760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52" name=""/>
          <p:cNvCxnSpPr>
            <a:stCxn id="991" idx="2"/>
            <a:endCxn id="851" idx="0"/>
          </p:cNvCxnSpPr>
          <p:nvPr/>
        </p:nvCxnSpPr>
        <p:spPr>
          <a:xfrm flipH="1">
            <a:off x="1915920" y="853920"/>
            <a:ext cx="366624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53" name=""/>
          <p:cNvCxnSpPr>
            <a:stCxn id="991" idx="2"/>
            <a:endCxn id="822" idx="0"/>
          </p:cNvCxnSpPr>
          <p:nvPr/>
        </p:nvCxnSpPr>
        <p:spPr>
          <a:xfrm flipH="1">
            <a:off x="4838400" y="853920"/>
            <a:ext cx="7437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54" name=""/>
          <p:cNvCxnSpPr>
            <a:stCxn id="991" idx="2"/>
            <a:endCxn id="823" idx="0"/>
          </p:cNvCxnSpPr>
          <p:nvPr/>
        </p:nvCxnSpPr>
        <p:spPr>
          <a:xfrm flipH="1">
            <a:off x="5447520" y="853920"/>
            <a:ext cx="1342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55" name=""/>
          <p:cNvCxnSpPr>
            <a:stCxn id="991" idx="2"/>
            <a:endCxn id="824" idx="0"/>
          </p:cNvCxnSpPr>
          <p:nvPr/>
        </p:nvCxnSpPr>
        <p:spPr>
          <a:xfrm>
            <a:off x="5581440" y="853920"/>
            <a:ext cx="47700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56" name=""/>
          <p:cNvCxnSpPr>
            <a:stCxn id="991" idx="2"/>
            <a:endCxn id="825" idx="0"/>
          </p:cNvCxnSpPr>
          <p:nvPr/>
        </p:nvCxnSpPr>
        <p:spPr>
          <a:xfrm>
            <a:off x="5581800" y="853920"/>
            <a:ext cx="10864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57" name=""/>
          <p:cNvCxnSpPr>
            <a:stCxn id="995" idx="2"/>
            <a:endCxn id="876" idx="0"/>
          </p:cNvCxnSpPr>
          <p:nvPr/>
        </p:nvCxnSpPr>
        <p:spPr>
          <a:xfrm flipH="1">
            <a:off x="190080" y="2758680"/>
            <a:ext cx="5544000" cy="6706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8" name=""/>
          <p:cNvCxnSpPr>
            <a:stCxn id="995" idx="2"/>
            <a:endCxn id="896" idx="0"/>
          </p:cNvCxnSpPr>
          <p:nvPr/>
        </p:nvCxnSpPr>
        <p:spPr>
          <a:xfrm flipH="1">
            <a:off x="696600" y="2758680"/>
            <a:ext cx="5037840" cy="6706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9" name=""/>
          <p:cNvCxnSpPr>
            <a:stCxn id="995" idx="2"/>
            <a:endCxn id="895" idx="0"/>
          </p:cNvCxnSpPr>
          <p:nvPr/>
        </p:nvCxnSpPr>
        <p:spPr>
          <a:xfrm flipH="1">
            <a:off x="1305720" y="2758680"/>
            <a:ext cx="4428360" cy="6706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60" name=""/>
          <p:cNvCxnSpPr>
            <a:stCxn id="995" idx="2"/>
            <a:endCxn id="897" idx="0"/>
          </p:cNvCxnSpPr>
          <p:nvPr/>
        </p:nvCxnSpPr>
        <p:spPr>
          <a:xfrm flipH="1">
            <a:off x="1915560" y="2758680"/>
            <a:ext cx="3818520" cy="6706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61" name=""/>
          <p:cNvCxnSpPr>
            <a:stCxn id="995" idx="2"/>
            <a:endCxn id="902" idx="0"/>
          </p:cNvCxnSpPr>
          <p:nvPr/>
        </p:nvCxnSpPr>
        <p:spPr>
          <a:xfrm flipH="1">
            <a:off x="4811400" y="2758680"/>
            <a:ext cx="923040" cy="6706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62" name=""/>
          <p:cNvCxnSpPr>
            <a:stCxn id="995" idx="2"/>
            <a:endCxn id="904" idx="0"/>
          </p:cNvCxnSpPr>
          <p:nvPr/>
        </p:nvCxnSpPr>
        <p:spPr>
          <a:xfrm flipH="1">
            <a:off x="5462280" y="2758680"/>
            <a:ext cx="272160" cy="6706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63" name=""/>
          <p:cNvCxnSpPr>
            <a:stCxn id="995" idx="2"/>
            <a:endCxn id="903" idx="0"/>
          </p:cNvCxnSpPr>
          <p:nvPr/>
        </p:nvCxnSpPr>
        <p:spPr>
          <a:xfrm>
            <a:off x="5733720" y="2758680"/>
            <a:ext cx="338760" cy="6706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64" name=""/>
          <p:cNvCxnSpPr>
            <a:stCxn id="995" idx="2"/>
            <a:endCxn id="871" idx="0"/>
          </p:cNvCxnSpPr>
          <p:nvPr/>
        </p:nvCxnSpPr>
        <p:spPr>
          <a:xfrm>
            <a:off x="5733720" y="2758680"/>
            <a:ext cx="934200" cy="6706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65" name=""/>
          <p:cNvCxnSpPr>
            <a:stCxn id="999" idx="2"/>
            <a:endCxn id="922" idx="0"/>
          </p:cNvCxnSpPr>
          <p:nvPr/>
        </p:nvCxnSpPr>
        <p:spPr>
          <a:xfrm flipH="1">
            <a:off x="190080" y="4358880"/>
            <a:ext cx="49348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1066" name=""/>
          <p:cNvCxnSpPr>
            <a:stCxn id="999" idx="2"/>
            <a:endCxn id="973" idx="0"/>
          </p:cNvCxnSpPr>
          <p:nvPr/>
        </p:nvCxnSpPr>
        <p:spPr>
          <a:xfrm flipH="1">
            <a:off x="696240" y="4358880"/>
            <a:ext cx="44283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1067" name=""/>
          <p:cNvCxnSpPr>
            <a:stCxn id="999" idx="2"/>
            <a:endCxn id="972" idx="0"/>
          </p:cNvCxnSpPr>
          <p:nvPr/>
        </p:nvCxnSpPr>
        <p:spPr>
          <a:xfrm flipH="1">
            <a:off x="1306080" y="4358880"/>
            <a:ext cx="38188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1068" name=""/>
          <p:cNvCxnSpPr>
            <a:stCxn id="999" idx="2"/>
            <a:endCxn id="974" idx="0"/>
          </p:cNvCxnSpPr>
          <p:nvPr/>
        </p:nvCxnSpPr>
        <p:spPr>
          <a:xfrm flipH="1">
            <a:off x="1915920" y="4358880"/>
            <a:ext cx="320904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1069" name=""/>
          <p:cNvCxnSpPr>
            <a:stCxn id="999" idx="2"/>
            <a:endCxn id="914" idx="0"/>
          </p:cNvCxnSpPr>
          <p:nvPr/>
        </p:nvCxnSpPr>
        <p:spPr>
          <a:xfrm flipH="1">
            <a:off x="4838400" y="4358880"/>
            <a:ext cx="2865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1070" name=""/>
          <p:cNvCxnSpPr>
            <a:stCxn id="999" idx="2"/>
            <a:endCxn id="981" idx="0"/>
          </p:cNvCxnSpPr>
          <p:nvPr/>
        </p:nvCxnSpPr>
        <p:spPr>
          <a:xfrm>
            <a:off x="5124240" y="4358880"/>
            <a:ext cx="3387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1071" name=""/>
          <p:cNvCxnSpPr>
            <a:stCxn id="999" idx="2"/>
            <a:endCxn id="980" idx="0"/>
          </p:cNvCxnSpPr>
          <p:nvPr/>
        </p:nvCxnSpPr>
        <p:spPr>
          <a:xfrm>
            <a:off x="5124600" y="4358880"/>
            <a:ext cx="94824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1072" name=""/>
          <p:cNvCxnSpPr>
            <a:stCxn id="999" idx="2"/>
            <a:endCxn id="982" idx="0"/>
          </p:cNvCxnSpPr>
          <p:nvPr/>
        </p:nvCxnSpPr>
        <p:spPr>
          <a:xfrm>
            <a:off x="5124600" y="4358880"/>
            <a:ext cx="15580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1073" name=""/>
          <p:cNvCxnSpPr>
            <a:stCxn id="992" idx="2"/>
            <a:endCxn id="830" idx="0"/>
          </p:cNvCxnSpPr>
          <p:nvPr/>
        </p:nvCxnSpPr>
        <p:spPr>
          <a:xfrm flipH="1">
            <a:off x="189720" y="853920"/>
            <a:ext cx="324396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74" name=""/>
          <p:cNvCxnSpPr>
            <a:stCxn id="992" idx="2"/>
            <a:endCxn id="850" idx="0"/>
          </p:cNvCxnSpPr>
          <p:nvPr/>
        </p:nvCxnSpPr>
        <p:spPr>
          <a:xfrm flipH="1">
            <a:off x="696960" y="853920"/>
            <a:ext cx="273708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75" name=""/>
          <p:cNvCxnSpPr>
            <a:stCxn id="992" idx="2"/>
            <a:endCxn id="856" idx="0"/>
          </p:cNvCxnSpPr>
          <p:nvPr/>
        </p:nvCxnSpPr>
        <p:spPr>
          <a:xfrm>
            <a:off x="3433680" y="853920"/>
            <a:ext cx="137880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76" name=""/>
          <p:cNvCxnSpPr>
            <a:stCxn id="992" idx="2"/>
            <a:endCxn id="858" idx="0"/>
          </p:cNvCxnSpPr>
          <p:nvPr/>
        </p:nvCxnSpPr>
        <p:spPr>
          <a:xfrm>
            <a:off x="3433680" y="853920"/>
            <a:ext cx="202968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77" name=""/>
          <p:cNvCxnSpPr>
            <a:stCxn id="992" idx="2"/>
            <a:endCxn id="857" idx="0"/>
          </p:cNvCxnSpPr>
          <p:nvPr/>
        </p:nvCxnSpPr>
        <p:spPr>
          <a:xfrm>
            <a:off x="3433320" y="853920"/>
            <a:ext cx="263916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78" name=""/>
          <p:cNvCxnSpPr>
            <a:stCxn id="992" idx="2"/>
            <a:endCxn id="859" idx="0"/>
          </p:cNvCxnSpPr>
          <p:nvPr/>
        </p:nvCxnSpPr>
        <p:spPr>
          <a:xfrm>
            <a:off x="3433320" y="853920"/>
            <a:ext cx="324900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79" name=""/>
          <p:cNvCxnSpPr>
            <a:stCxn id="996" idx="2"/>
            <a:endCxn id="876" idx="0"/>
          </p:cNvCxnSpPr>
          <p:nvPr/>
        </p:nvCxnSpPr>
        <p:spPr>
          <a:xfrm flipH="1">
            <a:off x="190080" y="2758680"/>
            <a:ext cx="316800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080" name=""/>
          <p:cNvCxnSpPr>
            <a:stCxn id="996" idx="2"/>
            <a:endCxn id="896" idx="0"/>
          </p:cNvCxnSpPr>
          <p:nvPr/>
        </p:nvCxnSpPr>
        <p:spPr>
          <a:xfrm flipH="1">
            <a:off x="696240" y="2758680"/>
            <a:ext cx="266148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081" name=""/>
          <p:cNvCxnSpPr>
            <a:stCxn id="996" idx="2"/>
            <a:endCxn id="902" idx="0"/>
          </p:cNvCxnSpPr>
          <p:nvPr/>
        </p:nvCxnSpPr>
        <p:spPr>
          <a:xfrm>
            <a:off x="3357360" y="2758680"/>
            <a:ext cx="145476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082" name=""/>
          <p:cNvCxnSpPr>
            <a:stCxn id="996" idx="2"/>
            <a:endCxn id="904" idx="0"/>
          </p:cNvCxnSpPr>
          <p:nvPr/>
        </p:nvCxnSpPr>
        <p:spPr>
          <a:xfrm>
            <a:off x="3357360" y="2758680"/>
            <a:ext cx="210564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083" name=""/>
          <p:cNvCxnSpPr>
            <a:stCxn id="996" idx="2"/>
            <a:endCxn id="870" idx="0"/>
          </p:cNvCxnSpPr>
          <p:nvPr/>
        </p:nvCxnSpPr>
        <p:spPr>
          <a:xfrm>
            <a:off x="3357360" y="2758680"/>
            <a:ext cx="270108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084" name=""/>
          <p:cNvCxnSpPr>
            <a:stCxn id="996" idx="2"/>
            <a:endCxn id="905" idx="0"/>
          </p:cNvCxnSpPr>
          <p:nvPr/>
        </p:nvCxnSpPr>
        <p:spPr>
          <a:xfrm>
            <a:off x="3357720" y="2758680"/>
            <a:ext cx="332496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085" name=""/>
          <p:cNvCxnSpPr>
            <a:stCxn id="1000" idx="2"/>
            <a:endCxn id="922" idx="0"/>
          </p:cNvCxnSpPr>
          <p:nvPr/>
        </p:nvCxnSpPr>
        <p:spPr>
          <a:xfrm flipH="1">
            <a:off x="189720" y="4358880"/>
            <a:ext cx="370116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1086" name=""/>
          <p:cNvCxnSpPr>
            <a:stCxn id="1000" idx="2"/>
            <a:endCxn id="973" idx="0"/>
          </p:cNvCxnSpPr>
          <p:nvPr/>
        </p:nvCxnSpPr>
        <p:spPr>
          <a:xfrm flipH="1">
            <a:off x="696600" y="4358880"/>
            <a:ext cx="319464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1087" name=""/>
          <p:cNvCxnSpPr>
            <a:stCxn id="1000" idx="2"/>
            <a:endCxn id="979" idx="0"/>
          </p:cNvCxnSpPr>
          <p:nvPr/>
        </p:nvCxnSpPr>
        <p:spPr>
          <a:xfrm>
            <a:off x="3890880" y="4358880"/>
            <a:ext cx="92160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1088" name=""/>
          <p:cNvCxnSpPr>
            <a:stCxn id="1000" idx="2"/>
            <a:endCxn id="981" idx="0"/>
          </p:cNvCxnSpPr>
          <p:nvPr/>
        </p:nvCxnSpPr>
        <p:spPr>
          <a:xfrm>
            <a:off x="3890880" y="4358880"/>
            <a:ext cx="157248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1089" name=""/>
          <p:cNvCxnSpPr>
            <a:stCxn id="1000" idx="2"/>
            <a:endCxn id="980" idx="0"/>
          </p:cNvCxnSpPr>
          <p:nvPr/>
        </p:nvCxnSpPr>
        <p:spPr>
          <a:xfrm>
            <a:off x="3890520" y="4358880"/>
            <a:ext cx="218196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1090" name=""/>
          <p:cNvCxnSpPr>
            <a:stCxn id="1000" idx="2"/>
            <a:endCxn id="982" idx="0"/>
          </p:cNvCxnSpPr>
          <p:nvPr/>
        </p:nvCxnSpPr>
        <p:spPr>
          <a:xfrm>
            <a:off x="3890520" y="4358880"/>
            <a:ext cx="279144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sp>
        <p:nvSpPr>
          <p:cNvPr id="1091" name=""/>
          <p:cNvSpPr/>
          <p:nvPr/>
        </p:nvSpPr>
        <p:spPr>
          <a:xfrm>
            <a:off x="107244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626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168192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291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82492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3434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04424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577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74488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13540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35472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688788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810720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49772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861984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5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7" name=""/>
          <p:cNvCxnSpPr>
            <a:stCxn id="992" idx="2"/>
            <a:endCxn id="832" idx="0"/>
          </p:cNvCxnSpPr>
          <p:nvPr/>
        </p:nvCxnSpPr>
        <p:spPr>
          <a:xfrm flipH="1">
            <a:off x="1333080" y="853920"/>
            <a:ext cx="210096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08" name=""/>
          <p:cNvCxnSpPr>
            <a:stCxn id="992" idx="2"/>
            <a:endCxn id="851" idx="0"/>
          </p:cNvCxnSpPr>
          <p:nvPr/>
        </p:nvCxnSpPr>
        <p:spPr>
          <a:xfrm flipH="1">
            <a:off x="1915560" y="853920"/>
            <a:ext cx="151812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09" name=""/>
          <p:cNvCxnSpPr>
            <a:stCxn id="996" idx="2"/>
            <a:endCxn id="895" idx="0"/>
          </p:cNvCxnSpPr>
          <p:nvPr/>
        </p:nvCxnSpPr>
        <p:spPr>
          <a:xfrm flipH="1">
            <a:off x="1306080" y="2758680"/>
            <a:ext cx="205200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110" name=""/>
          <p:cNvCxnSpPr>
            <a:stCxn id="996" idx="2"/>
            <a:endCxn id="897" idx="0"/>
          </p:cNvCxnSpPr>
          <p:nvPr/>
        </p:nvCxnSpPr>
        <p:spPr>
          <a:xfrm flipH="1">
            <a:off x="1915920" y="2758680"/>
            <a:ext cx="144216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111" name=""/>
          <p:cNvCxnSpPr>
            <a:stCxn id="1000" idx="2"/>
            <a:endCxn id="972" idx="0"/>
          </p:cNvCxnSpPr>
          <p:nvPr/>
        </p:nvCxnSpPr>
        <p:spPr>
          <a:xfrm flipH="1">
            <a:off x="1305720" y="4358880"/>
            <a:ext cx="258516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1112" name=""/>
          <p:cNvCxnSpPr>
            <a:stCxn id="1000" idx="2"/>
            <a:endCxn id="974" idx="0"/>
          </p:cNvCxnSpPr>
          <p:nvPr/>
        </p:nvCxnSpPr>
        <p:spPr>
          <a:xfrm flipH="1">
            <a:off x="1915560" y="4358880"/>
            <a:ext cx="197532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D6C-3FAF-46B0-9D2D-BFCF2670B3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70102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620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82296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8763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648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2578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8672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477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362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8954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505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1148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335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1430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7524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9" name=""/>
          <p:cNvCxnSpPr>
            <a:stCxn id="1125" idx="6"/>
            <a:endCxn id="1126" idx="2"/>
          </p:cNvCxnSpPr>
          <p:nvPr/>
        </p:nvCxnSpPr>
        <p:spPr>
          <a:xfrm>
            <a:off x="3808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30" name=""/>
          <p:cNvCxnSpPr>
            <a:stCxn id="1126" idx="6"/>
            <a:endCxn id="1127" idx="2"/>
          </p:cNvCxnSpPr>
          <p:nvPr/>
        </p:nvCxnSpPr>
        <p:spPr>
          <a:xfrm>
            <a:off x="9140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31" name=""/>
          <p:cNvCxnSpPr>
            <a:stCxn id="1127" idx="6"/>
            <a:endCxn id="1128" idx="2"/>
          </p:cNvCxnSpPr>
          <p:nvPr/>
        </p:nvCxnSpPr>
        <p:spPr>
          <a:xfrm>
            <a:off x="152352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32" name=""/>
          <p:cNvCxnSpPr>
            <a:stCxn id="1128" idx="6"/>
            <a:endCxn id="1121" idx="2"/>
          </p:cNvCxnSpPr>
          <p:nvPr/>
        </p:nvCxnSpPr>
        <p:spPr>
          <a:xfrm>
            <a:off x="21333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33" name=""/>
          <p:cNvCxnSpPr>
            <a:stCxn id="1121" idx="6"/>
            <a:endCxn id="1122" idx="2"/>
          </p:cNvCxnSpPr>
          <p:nvPr/>
        </p:nvCxnSpPr>
        <p:spPr>
          <a:xfrm>
            <a:off x="2742840" y="19429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34" name=""/>
          <p:cNvCxnSpPr>
            <a:stCxn id="1122" idx="6"/>
            <a:endCxn id="1123" idx="2"/>
          </p:cNvCxnSpPr>
          <p:nvPr/>
        </p:nvCxnSpPr>
        <p:spPr>
          <a:xfrm>
            <a:off x="32763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35" name=""/>
          <p:cNvCxnSpPr>
            <a:stCxn id="1123" idx="6"/>
            <a:endCxn id="1124" idx="2"/>
          </p:cNvCxnSpPr>
          <p:nvPr/>
        </p:nvCxnSpPr>
        <p:spPr>
          <a:xfrm>
            <a:off x="38858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36" name=""/>
          <p:cNvCxnSpPr>
            <a:stCxn id="1124" idx="6"/>
            <a:endCxn id="1117" idx="2"/>
          </p:cNvCxnSpPr>
          <p:nvPr/>
        </p:nvCxnSpPr>
        <p:spPr>
          <a:xfrm>
            <a:off x="44956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37" name=""/>
          <p:cNvCxnSpPr>
            <a:stCxn id="1117" idx="6"/>
            <a:endCxn id="1118" idx="2"/>
          </p:cNvCxnSpPr>
          <p:nvPr/>
        </p:nvCxnSpPr>
        <p:spPr>
          <a:xfrm>
            <a:off x="50288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38" name=""/>
          <p:cNvCxnSpPr>
            <a:stCxn id="1118" idx="6"/>
            <a:endCxn id="1119" idx="2"/>
          </p:cNvCxnSpPr>
          <p:nvPr/>
        </p:nvCxnSpPr>
        <p:spPr>
          <a:xfrm>
            <a:off x="563832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39" name=""/>
          <p:cNvCxnSpPr>
            <a:stCxn id="1119" idx="6"/>
            <a:endCxn id="1120" idx="2"/>
          </p:cNvCxnSpPr>
          <p:nvPr/>
        </p:nvCxnSpPr>
        <p:spPr>
          <a:xfrm>
            <a:off x="62481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0" idx="6"/>
            <a:endCxn id="1113" idx="2"/>
          </p:cNvCxnSpPr>
          <p:nvPr/>
        </p:nvCxnSpPr>
        <p:spPr>
          <a:xfrm>
            <a:off x="6857640" y="19429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13" idx="6"/>
            <a:endCxn id="1114" idx="2"/>
          </p:cNvCxnSpPr>
          <p:nvPr/>
        </p:nvCxnSpPr>
        <p:spPr>
          <a:xfrm>
            <a:off x="73911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42" name=""/>
          <p:cNvCxnSpPr>
            <a:stCxn id="1114" idx="6"/>
            <a:endCxn id="1115" idx="2"/>
          </p:cNvCxnSpPr>
          <p:nvPr/>
        </p:nvCxnSpPr>
        <p:spPr>
          <a:xfrm>
            <a:off x="80006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43" name=""/>
          <p:cNvCxnSpPr>
            <a:stCxn id="1115" idx="6"/>
            <a:endCxn id="1116" idx="2"/>
          </p:cNvCxnSpPr>
          <p:nvPr/>
        </p:nvCxnSpPr>
        <p:spPr>
          <a:xfrm>
            <a:off x="86104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144" name=""/>
          <p:cNvSpPr/>
          <p:nvPr/>
        </p:nvSpPr>
        <p:spPr>
          <a:xfrm>
            <a:off x="107136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615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168084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290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82384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433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04316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576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79960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1897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40908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694260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81615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755208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86745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70102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7620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82296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8763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648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8672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477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362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8954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505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1148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335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1430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7524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"/>
          <p:cNvCxnSpPr>
            <a:stCxn id="1171" idx="6"/>
            <a:endCxn id="1172" idx="2"/>
          </p:cNvCxnSpPr>
          <p:nvPr/>
        </p:nvCxnSpPr>
        <p:spPr>
          <a:xfrm>
            <a:off x="3808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176" name=""/>
          <p:cNvCxnSpPr>
            <a:stCxn id="1172" idx="6"/>
            <a:endCxn id="1173" idx="2"/>
          </p:cNvCxnSpPr>
          <p:nvPr/>
        </p:nvCxnSpPr>
        <p:spPr>
          <a:xfrm>
            <a:off x="9140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177" name=""/>
          <p:cNvCxnSpPr>
            <a:stCxn id="1173" idx="6"/>
            <a:endCxn id="1174" idx="2"/>
          </p:cNvCxnSpPr>
          <p:nvPr/>
        </p:nvCxnSpPr>
        <p:spPr>
          <a:xfrm>
            <a:off x="152352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178" name=""/>
          <p:cNvCxnSpPr>
            <a:stCxn id="1174" idx="6"/>
            <a:endCxn id="1167" idx="2"/>
          </p:cNvCxnSpPr>
          <p:nvPr/>
        </p:nvCxnSpPr>
        <p:spPr>
          <a:xfrm>
            <a:off x="21333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179" name=""/>
          <p:cNvCxnSpPr>
            <a:stCxn id="1167" idx="6"/>
            <a:endCxn id="1168" idx="2"/>
          </p:cNvCxnSpPr>
          <p:nvPr/>
        </p:nvCxnSpPr>
        <p:spPr>
          <a:xfrm>
            <a:off x="2742840" y="361908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180" name=""/>
          <p:cNvCxnSpPr>
            <a:stCxn id="1168" idx="6"/>
            <a:endCxn id="1169" idx="2"/>
          </p:cNvCxnSpPr>
          <p:nvPr/>
        </p:nvCxnSpPr>
        <p:spPr>
          <a:xfrm>
            <a:off x="32763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181" name=""/>
          <p:cNvCxnSpPr>
            <a:stCxn id="1169" idx="6"/>
            <a:endCxn id="1170" idx="2"/>
          </p:cNvCxnSpPr>
          <p:nvPr/>
        </p:nvCxnSpPr>
        <p:spPr>
          <a:xfrm>
            <a:off x="38858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182" name=""/>
          <p:cNvCxnSpPr>
            <a:stCxn id="1170" idx="6"/>
            <a:endCxn id="1163" idx="2"/>
          </p:cNvCxnSpPr>
          <p:nvPr/>
        </p:nvCxnSpPr>
        <p:spPr>
          <a:xfrm>
            <a:off x="44956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183" name=""/>
          <p:cNvCxnSpPr>
            <a:stCxn id="1163" idx="6"/>
            <a:endCxn id="1164" idx="2"/>
          </p:cNvCxnSpPr>
          <p:nvPr/>
        </p:nvCxnSpPr>
        <p:spPr>
          <a:xfrm>
            <a:off x="50288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184" name=""/>
          <p:cNvCxnSpPr>
            <a:stCxn id="1164" idx="6"/>
            <a:endCxn id="1165" idx="2"/>
          </p:cNvCxnSpPr>
          <p:nvPr/>
        </p:nvCxnSpPr>
        <p:spPr>
          <a:xfrm>
            <a:off x="563832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185" name=""/>
          <p:cNvCxnSpPr>
            <a:stCxn id="1165" idx="6"/>
            <a:endCxn id="1166" idx="2"/>
          </p:cNvCxnSpPr>
          <p:nvPr/>
        </p:nvCxnSpPr>
        <p:spPr>
          <a:xfrm>
            <a:off x="62481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186" name=""/>
          <p:cNvCxnSpPr>
            <a:stCxn id="1166" idx="6"/>
            <a:endCxn id="1159" idx="2"/>
          </p:cNvCxnSpPr>
          <p:nvPr/>
        </p:nvCxnSpPr>
        <p:spPr>
          <a:xfrm>
            <a:off x="6857640" y="361908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187" name=""/>
          <p:cNvCxnSpPr>
            <a:stCxn id="1159" idx="6"/>
            <a:endCxn id="1160" idx="2"/>
          </p:cNvCxnSpPr>
          <p:nvPr/>
        </p:nvCxnSpPr>
        <p:spPr>
          <a:xfrm>
            <a:off x="73911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188" name=""/>
          <p:cNvCxnSpPr>
            <a:stCxn id="1160" idx="6"/>
            <a:endCxn id="1161" idx="2"/>
          </p:cNvCxnSpPr>
          <p:nvPr/>
        </p:nvCxnSpPr>
        <p:spPr>
          <a:xfrm>
            <a:off x="80006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189" name=""/>
          <p:cNvCxnSpPr>
            <a:stCxn id="1161" idx="6"/>
            <a:endCxn id="1162" idx="2"/>
          </p:cNvCxnSpPr>
          <p:nvPr/>
        </p:nvCxnSpPr>
        <p:spPr>
          <a:xfrm>
            <a:off x="86104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sp>
        <p:nvSpPr>
          <p:cNvPr id="1190" name=""/>
          <p:cNvSpPr/>
          <p:nvPr/>
        </p:nvSpPr>
        <p:spPr>
          <a:xfrm>
            <a:off x="107136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615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68084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290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82384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433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04316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576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79960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897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40908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94260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81615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755208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86745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0102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620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82296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8763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648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2578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8672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477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362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8954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505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1148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5335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1430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7524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1" name=""/>
          <p:cNvCxnSpPr>
            <a:stCxn id="1217" idx="6"/>
            <a:endCxn id="1218" idx="2"/>
          </p:cNvCxnSpPr>
          <p:nvPr/>
        </p:nvCxnSpPr>
        <p:spPr>
          <a:xfrm>
            <a:off x="3808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222" name=""/>
          <p:cNvCxnSpPr>
            <a:stCxn id="1218" idx="6"/>
            <a:endCxn id="1219" idx="2"/>
          </p:cNvCxnSpPr>
          <p:nvPr/>
        </p:nvCxnSpPr>
        <p:spPr>
          <a:xfrm>
            <a:off x="9140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223" name=""/>
          <p:cNvCxnSpPr>
            <a:stCxn id="1219" idx="6"/>
            <a:endCxn id="1220" idx="2"/>
          </p:cNvCxnSpPr>
          <p:nvPr/>
        </p:nvCxnSpPr>
        <p:spPr>
          <a:xfrm>
            <a:off x="152352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224" name=""/>
          <p:cNvCxnSpPr>
            <a:stCxn id="1220" idx="6"/>
            <a:endCxn id="1213" idx="2"/>
          </p:cNvCxnSpPr>
          <p:nvPr/>
        </p:nvCxnSpPr>
        <p:spPr>
          <a:xfrm>
            <a:off x="21333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225" name=""/>
          <p:cNvCxnSpPr>
            <a:stCxn id="1213" idx="6"/>
            <a:endCxn id="1214" idx="2"/>
          </p:cNvCxnSpPr>
          <p:nvPr/>
        </p:nvCxnSpPr>
        <p:spPr>
          <a:xfrm>
            <a:off x="2742840" y="521928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226" name=""/>
          <p:cNvCxnSpPr>
            <a:stCxn id="1214" idx="6"/>
            <a:endCxn id="1215" idx="2"/>
          </p:cNvCxnSpPr>
          <p:nvPr/>
        </p:nvCxnSpPr>
        <p:spPr>
          <a:xfrm>
            <a:off x="32763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227" name=""/>
          <p:cNvCxnSpPr>
            <a:stCxn id="1215" idx="6"/>
            <a:endCxn id="1216" idx="2"/>
          </p:cNvCxnSpPr>
          <p:nvPr/>
        </p:nvCxnSpPr>
        <p:spPr>
          <a:xfrm>
            <a:off x="38858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228" name=""/>
          <p:cNvCxnSpPr>
            <a:stCxn id="1216" idx="6"/>
            <a:endCxn id="1209" idx="2"/>
          </p:cNvCxnSpPr>
          <p:nvPr/>
        </p:nvCxnSpPr>
        <p:spPr>
          <a:xfrm>
            <a:off x="44956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229" name=""/>
          <p:cNvCxnSpPr>
            <a:stCxn id="1209" idx="6"/>
            <a:endCxn id="1210" idx="2"/>
          </p:cNvCxnSpPr>
          <p:nvPr/>
        </p:nvCxnSpPr>
        <p:spPr>
          <a:xfrm>
            <a:off x="50288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230" name=""/>
          <p:cNvCxnSpPr>
            <a:stCxn id="1210" idx="6"/>
            <a:endCxn id="1211" idx="2"/>
          </p:cNvCxnSpPr>
          <p:nvPr/>
        </p:nvCxnSpPr>
        <p:spPr>
          <a:xfrm>
            <a:off x="563832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231" name=""/>
          <p:cNvCxnSpPr>
            <a:stCxn id="1211" idx="6"/>
            <a:endCxn id="1212" idx="2"/>
          </p:cNvCxnSpPr>
          <p:nvPr/>
        </p:nvCxnSpPr>
        <p:spPr>
          <a:xfrm>
            <a:off x="62481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232" name=""/>
          <p:cNvCxnSpPr>
            <a:stCxn id="1212" idx="6"/>
            <a:endCxn id="1205" idx="2"/>
          </p:cNvCxnSpPr>
          <p:nvPr/>
        </p:nvCxnSpPr>
        <p:spPr>
          <a:xfrm>
            <a:off x="6857640" y="521928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233" name=""/>
          <p:cNvCxnSpPr>
            <a:stCxn id="1205" idx="6"/>
            <a:endCxn id="1206" idx="2"/>
          </p:cNvCxnSpPr>
          <p:nvPr/>
        </p:nvCxnSpPr>
        <p:spPr>
          <a:xfrm>
            <a:off x="73911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234" name=""/>
          <p:cNvCxnSpPr>
            <a:stCxn id="1206" idx="6"/>
            <a:endCxn id="1207" idx="2"/>
          </p:cNvCxnSpPr>
          <p:nvPr/>
        </p:nvCxnSpPr>
        <p:spPr>
          <a:xfrm>
            <a:off x="80006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235" name=""/>
          <p:cNvCxnSpPr>
            <a:stCxn id="1207" idx="6"/>
            <a:endCxn id="1208" idx="2"/>
          </p:cNvCxnSpPr>
          <p:nvPr/>
        </p:nvCxnSpPr>
        <p:spPr>
          <a:xfrm>
            <a:off x="86104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sp>
        <p:nvSpPr>
          <p:cNvPr id="1236" name=""/>
          <p:cNvSpPr/>
          <p:nvPr/>
        </p:nvSpPr>
        <p:spPr>
          <a:xfrm>
            <a:off x="70102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620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82296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763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4648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2578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8672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477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362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8954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505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1148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1430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7524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2" name=""/>
          <p:cNvCxnSpPr>
            <a:stCxn id="1248" idx="6"/>
            <a:endCxn id="1249" idx="2"/>
          </p:cNvCxnSpPr>
          <p:nvPr/>
        </p:nvCxnSpPr>
        <p:spPr>
          <a:xfrm>
            <a:off x="3808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53" name=""/>
          <p:cNvCxnSpPr>
            <a:stCxn id="1249" idx="6"/>
            <a:endCxn id="1250" idx="2"/>
          </p:cNvCxnSpPr>
          <p:nvPr/>
        </p:nvCxnSpPr>
        <p:spPr>
          <a:xfrm>
            <a:off x="9140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54" name=""/>
          <p:cNvCxnSpPr>
            <a:stCxn id="1250" idx="6"/>
            <a:endCxn id="1251" idx="2"/>
          </p:cNvCxnSpPr>
          <p:nvPr/>
        </p:nvCxnSpPr>
        <p:spPr>
          <a:xfrm>
            <a:off x="152352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55" name=""/>
          <p:cNvCxnSpPr>
            <a:stCxn id="1251" idx="6"/>
            <a:endCxn id="1244" idx="2"/>
          </p:cNvCxnSpPr>
          <p:nvPr/>
        </p:nvCxnSpPr>
        <p:spPr>
          <a:xfrm>
            <a:off x="21333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56" name=""/>
          <p:cNvCxnSpPr>
            <a:stCxn id="1244" idx="6"/>
            <a:endCxn id="1245" idx="2"/>
          </p:cNvCxnSpPr>
          <p:nvPr/>
        </p:nvCxnSpPr>
        <p:spPr>
          <a:xfrm>
            <a:off x="2742840" y="666720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57" name=""/>
          <p:cNvCxnSpPr>
            <a:stCxn id="1245" idx="6"/>
            <a:endCxn id="1246" idx="2"/>
          </p:cNvCxnSpPr>
          <p:nvPr/>
        </p:nvCxnSpPr>
        <p:spPr>
          <a:xfrm>
            <a:off x="32763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58" name=""/>
          <p:cNvCxnSpPr>
            <a:stCxn id="1246" idx="6"/>
            <a:endCxn id="1247" idx="2"/>
          </p:cNvCxnSpPr>
          <p:nvPr/>
        </p:nvCxnSpPr>
        <p:spPr>
          <a:xfrm>
            <a:off x="38858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59" name=""/>
          <p:cNvCxnSpPr>
            <a:stCxn id="1247" idx="6"/>
            <a:endCxn id="1240" idx="2"/>
          </p:cNvCxnSpPr>
          <p:nvPr/>
        </p:nvCxnSpPr>
        <p:spPr>
          <a:xfrm>
            <a:off x="44956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60" name=""/>
          <p:cNvCxnSpPr>
            <a:stCxn id="1240" idx="6"/>
            <a:endCxn id="1241" idx="2"/>
          </p:cNvCxnSpPr>
          <p:nvPr/>
        </p:nvCxnSpPr>
        <p:spPr>
          <a:xfrm>
            <a:off x="50288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61" name=""/>
          <p:cNvCxnSpPr>
            <a:stCxn id="1241" idx="6"/>
            <a:endCxn id="1242" idx="2"/>
          </p:cNvCxnSpPr>
          <p:nvPr/>
        </p:nvCxnSpPr>
        <p:spPr>
          <a:xfrm>
            <a:off x="563832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62" name=""/>
          <p:cNvCxnSpPr>
            <a:stCxn id="1242" idx="6"/>
            <a:endCxn id="1243" idx="2"/>
          </p:cNvCxnSpPr>
          <p:nvPr/>
        </p:nvCxnSpPr>
        <p:spPr>
          <a:xfrm>
            <a:off x="62481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63" name=""/>
          <p:cNvCxnSpPr>
            <a:stCxn id="1243" idx="6"/>
            <a:endCxn id="1236" idx="2"/>
          </p:cNvCxnSpPr>
          <p:nvPr/>
        </p:nvCxnSpPr>
        <p:spPr>
          <a:xfrm>
            <a:off x="6857640" y="666720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64" name=""/>
          <p:cNvCxnSpPr>
            <a:stCxn id="1236" idx="6"/>
            <a:endCxn id="1237" idx="2"/>
          </p:cNvCxnSpPr>
          <p:nvPr/>
        </p:nvCxnSpPr>
        <p:spPr>
          <a:xfrm>
            <a:off x="73911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65" name=""/>
          <p:cNvCxnSpPr>
            <a:stCxn id="1237" idx="6"/>
            <a:endCxn id="1238" idx="2"/>
          </p:cNvCxnSpPr>
          <p:nvPr/>
        </p:nvCxnSpPr>
        <p:spPr>
          <a:xfrm>
            <a:off x="80006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66" name=""/>
          <p:cNvCxnSpPr>
            <a:stCxn id="1238" idx="6"/>
            <a:endCxn id="1239" idx="2"/>
          </p:cNvCxnSpPr>
          <p:nvPr/>
        </p:nvCxnSpPr>
        <p:spPr>
          <a:xfrm>
            <a:off x="86104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1267" name=""/>
          <p:cNvSpPr/>
          <p:nvPr/>
        </p:nvSpPr>
        <p:spPr>
          <a:xfrm>
            <a:off x="107136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615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68084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290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82384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3433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404316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576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579960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18976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409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94260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816156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552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8695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191120" y="0"/>
            <a:ext cx="380880" cy="380880"/>
          </a:xfrm>
          <a:prstGeom prst="ellipse">
            <a:avLst/>
          </a:prstGeom>
          <a:solidFill>
            <a:srgbClr val="c18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4192920" y="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76720" y="45720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410080" y="457200"/>
            <a:ext cx="381240" cy="3808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0" y="4572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201480" y="457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200400" y="2362320"/>
            <a:ext cx="380880" cy="3808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562720" y="2362320"/>
            <a:ext cx="380880" cy="3808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487480" y="2362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125520" y="2362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733920" y="3962520"/>
            <a:ext cx="380880" cy="3808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952880" y="3962520"/>
            <a:ext cx="381240" cy="3808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878000" y="3962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658680" y="3962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6" name=""/>
          <p:cNvCxnSpPr>
            <a:stCxn id="1125" idx="4"/>
          </p:cNvCxnSpPr>
          <p:nvPr/>
        </p:nvCxnSpPr>
        <p:spPr>
          <a:xfrm>
            <a:off x="190440" y="2133360"/>
            <a:ext cx="388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97" name=""/>
          <p:cNvCxnSpPr>
            <a:stCxn id="1145" idx="2"/>
            <a:endCxn id="1249" idx="0"/>
          </p:cNvCxnSpPr>
          <p:nvPr/>
        </p:nvCxnSpPr>
        <p:spPr>
          <a:xfrm>
            <a:off x="6966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98" name=""/>
          <p:cNvCxnSpPr>
            <a:stCxn id="1127" idx="4"/>
            <a:endCxn id="1250" idx="0"/>
          </p:cNvCxnSpPr>
          <p:nvPr/>
        </p:nvCxnSpPr>
        <p:spPr>
          <a:xfrm>
            <a:off x="1333080" y="2133360"/>
            <a:ext cx="10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99" name=""/>
          <p:cNvCxnSpPr>
            <a:stCxn id="1146" idx="2"/>
            <a:endCxn id="1251" idx="0"/>
          </p:cNvCxnSpPr>
          <p:nvPr/>
        </p:nvCxnSpPr>
        <p:spPr>
          <a:xfrm>
            <a:off x="191592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00" name=""/>
          <p:cNvCxnSpPr>
            <a:stCxn id="1147" idx="2"/>
            <a:endCxn id="1244" idx="0"/>
          </p:cNvCxnSpPr>
          <p:nvPr/>
        </p:nvCxnSpPr>
        <p:spPr>
          <a:xfrm>
            <a:off x="2525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01" name=""/>
          <p:cNvCxnSpPr>
            <a:stCxn id="1148" idx="2"/>
            <a:endCxn id="1245" idx="0"/>
          </p:cNvCxnSpPr>
          <p:nvPr/>
        </p:nvCxnSpPr>
        <p:spPr>
          <a:xfrm>
            <a:off x="305892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02" name=""/>
          <p:cNvCxnSpPr>
            <a:stCxn id="1149" idx="2"/>
            <a:endCxn id="1246" idx="0"/>
          </p:cNvCxnSpPr>
          <p:nvPr/>
        </p:nvCxnSpPr>
        <p:spPr>
          <a:xfrm>
            <a:off x="3668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03" name=""/>
          <p:cNvCxnSpPr>
            <a:stCxn id="1150" idx="2"/>
            <a:endCxn id="1247" idx="0"/>
          </p:cNvCxnSpPr>
          <p:nvPr/>
        </p:nvCxnSpPr>
        <p:spPr>
          <a:xfrm>
            <a:off x="427788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04" name=""/>
          <p:cNvCxnSpPr>
            <a:stCxn id="1151" idx="2"/>
            <a:endCxn id="1240" idx="0"/>
          </p:cNvCxnSpPr>
          <p:nvPr/>
        </p:nvCxnSpPr>
        <p:spPr>
          <a:xfrm>
            <a:off x="4811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05" name=""/>
          <p:cNvCxnSpPr>
            <a:stCxn id="1153" idx="2"/>
            <a:endCxn id="1241" idx="0"/>
          </p:cNvCxnSpPr>
          <p:nvPr/>
        </p:nvCxnSpPr>
        <p:spPr>
          <a:xfrm flipH="1">
            <a:off x="544788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06" name=""/>
          <p:cNvCxnSpPr>
            <a:stCxn id="1119" idx="4"/>
            <a:endCxn id="1242" idx="0"/>
          </p:cNvCxnSpPr>
          <p:nvPr/>
        </p:nvCxnSpPr>
        <p:spPr>
          <a:xfrm>
            <a:off x="6057720" y="2133360"/>
            <a:ext cx="10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07" name=""/>
          <p:cNvCxnSpPr>
            <a:stCxn id="1154" idx="2"/>
            <a:endCxn id="1243" idx="0"/>
          </p:cNvCxnSpPr>
          <p:nvPr/>
        </p:nvCxnSpPr>
        <p:spPr>
          <a:xfrm flipH="1">
            <a:off x="666720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08" name=""/>
          <p:cNvCxnSpPr>
            <a:stCxn id="1155" idx="2"/>
            <a:endCxn id="1236" idx="0"/>
          </p:cNvCxnSpPr>
          <p:nvPr/>
        </p:nvCxnSpPr>
        <p:spPr>
          <a:xfrm flipH="1">
            <a:off x="7200360" y="2149200"/>
            <a:ext cx="1476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09" name=""/>
          <p:cNvCxnSpPr>
            <a:stCxn id="1157" idx="2"/>
            <a:endCxn id="1237" idx="0"/>
          </p:cNvCxnSpPr>
          <p:nvPr/>
        </p:nvCxnSpPr>
        <p:spPr>
          <a:xfrm flipH="1">
            <a:off x="781020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10" name=""/>
          <p:cNvCxnSpPr>
            <a:stCxn id="1156" idx="2"/>
            <a:endCxn id="1238" idx="0"/>
          </p:cNvCxnSpPr>
          <p:nvPr/>
        </p:nvCxnSpPr>
        <p:spPr>
          <a:xfrm flipH="1">
            <a:off x="841968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11" name=""/>
          <p:cNvCxnSpPr>
            <a:stCxn id="1158" idx="2"/>
            <a:endCxn id="1239" idx="0"/>
          </p:cNvCxnSpPr>
          <p:nvPr/>
        </p:nvCxnSpPr>
        <p:spPr>
          <a:xfrm>
            <a:off x="8947080" y="2149200"/>
            <a:ext cx="720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12" name=""/>
          <p:cNvCxnSpPr>
            <a:stCxn id="1171" idx="4"/>
            <a:endCxn id="1248" idx="1"/>
          </p:cNvCxnSpPr>
          <p:nvPr/>
        </p:nvCxnSpPr>
        <p:spPr>
          <a:xfrm flipH="1">
            <a:off x="5472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313" name=""/>
          <p:cNvCxnSpPr>
            <a:stCxn id="1191" idx="2"/>
          </p:cNvCxnSpPr>
          <p:nvPr/>
        </p:nvCxnSpPr>
        <p:spPr>
          <a:xfrm flipH="1">
            <a:off x="610920" y="3825720"/>
            <a:ext cx="86400" cy="268704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314" name=""/>
          <p:cNvCxnSpPr>
            <a:stCxn id="1190" idx="2"/>
            <a:endCxn id="1250" idx="1"/>
          </p:cNvCxnSpPr>
          <p:nvPr/>
        </p:nvCxnSpPr>
        <p:spPr>
          <a:xfrm flipH="1">
            <a:off x="119808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315" name=""/>
          <p:cNvCxnSpPr>
            <a:stCxn id="1192" idx="2"/>
            <a:endCxn id="1251" idx="1"/>
          </p:cNvCxnSpPr>
          <p:nvPr/>
        </p:nvCxnSpPr>
        <p:spPr>
          <a:xfrm flipH="1">
            <a:off x="180792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316" name=""/>
          <p:cNvCxnSpPr>
            <a:stCxn id="1193" idx="2"/>
            <a:endCxn id="1244" idx="1"/>
          </p:cNvCxnSpPr>
          <p:nvPr/>
        </p:nvCxnSpPr>
        <p:spPr>
          <a:xfrm flipH="1">
            <a:off x="2417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317" name=""/>
          <p:cNvCxnSpPr>
            <a:stCxn id="1194" idx="2"/>
            <a:endCxn id="1245" idx="1"/>
          </p:cNvCxnSpPr>
          <p:nvPr/>
        </p:nvCxnSpPr>
        <p:spPr>
          <a:xfrm flipH="1">
            <a:off x="295092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318" name=""/>
          <p:cNvCxnSpPr>
            <a:stCxn id="1195" idx="2"/>
            <a:endCxn id="1246" idx="1"/>
          </p:cNvCxnSpPr>
          <p:nvPr/>
        </p:nvCxnSpPr>
        <p:spPr>
          <a:xfrm flipH="1">
            <a:off x="3560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319" name=""/>
          <p:cNvCxnSpPr>
            <a:stCxn id="1170" idx="4"/>
            <a:endCxn id="1247" idx="1"/>
          </p:cNvCxnSpPr>
          <p:nvPr/>
        </p:nvCxnSpPr>
        <p:spPr>
          <a:xfrm flipH="1">
            <a:off x="416952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320" name=""/>
          <p:cNvCxnSpPr>
            <a:stCxn id="1197" idx="2"/>
            <a:endCxn id="1240" idx="1"/>
          </p:cNvCxnSpPr>
          <p:nvPr/>
        </p:nvCxnSpPr>
        <p:spPr>
          <a:xfrm flipH="1">
            <a:off x="4703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321" name=""/>
          <p:cNvCxnSpPr>
            <a:stCxn id="1199" idx="2"/>
            <a:endCxn id="1241" idx="1"/>
          </p:cNvCxnSpPr>
          <p:nvPr/>
        </p:nvCxnSpPr>
        <p:spPr>
          <a:xfrm flipH="1">
            <a:off x="531252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322" name=""/>
          <p:cNvCxnSpPr>
            <a:stCxn id="1198" idx="2"/>
            <a:endCxn id="1242" idx="1"/>
          </p:cNvCxnSpPr>
          <p:nvPr/>
        </p:nvCxnSpPr>
        <p:spPr>
          <a:xfrm flipH="1">
            <a:off x="5922720" y="3825360"/>
            <a:ext cx="14976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323" name=""/>
          <p:cNvCxnSpPr>
            <a:stCxn id="1200" idx="2"/>
            <a:endCxn id="1243" idx="1"/>
          </p:cNvCxnSpPr>
          <p:nvPr/>
        </p:nvCxnSpPr>
        <p:spPr>
          <a:xfrm flipH="1">
            <a:off x="653184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324" name=""/>
          <p:cNvCxnSpPr>
            <a:stCxn id="1201" idx="2"/>
            <a:endCxn id="1236" idx="1"/>
          </p:cNvCxnSpPr>
          <p:nvPr/>
        </p:nvCxnSpPr>
        <p:spPr>
          <a:xfrm flipH="1">
            <a:off x="7065720" y="3825360"/>
            <a:ext cx="14976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325" name=""/>
          <p:cNvCxnSpPr>
            <a:stCxn id="1160" idx="4"/>
            <a:endCxn id="1237" idx="1"/>
          </p:cNvCxnSpPr>
          <p:nvPr/>
        </p:nvCxnSpPr>
        <p:spPr>
          <a:xfrm flipH="1">
            <a:off x="767484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326" name=""/>
          <p:cNvCxnSpPr>
            <a:stCxn id="1202" idx="2"/>
            <a:endCxn id="1238" idx="1"/>
          </p:cNvCxnSpPr>
          <p:nvPr/>
        </p:nvCxnSpPr>
        <p:spPr>
          <a:xfrm flipH="1">
            <a:off x="828432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327" name=""/>
          <p:cNvCxnSpPr>
            <a:stCxn id="1204" idx="2"/>
            <a:endCxn id="1239" idx="1"/>
          </p:cNvCxnSpPr>
          <p:nvPr/>
        </p:nvCxnSpPr>
        <p:spPr>
          <a:xfrm flipH="1">
            <a:off x="8817840" y="3825360"/>
            <a:ext cx="12924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328" name=""/>
          <p:cNvCxnSpPr>
            <a:stCxn id="1217" idx="4"/>
            <a:endCxn id="1248" idx="7"/>
          </p:cNvCxnSpPr>
          <p:nvPr/>
        </p:nvCxnSpPr>
        <p:spPr>
          <a:xfrm>
            <a:off x="1900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29" name=""/>
          <p:cNvCxnSpPr>
            <a:stCxn id="1218" idx="4"/>
            <a:endCxn id="1249" idx="7"/>
          </p:cNvCxnSpPr>
          <p:nvPr/>
        </p:nvCxnSpPr>
        <p:spPr>
          <a:xfrm>
            <a:off x="72360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30" name=""/>
          <p:cNvCxnSpPr>
            <a:stCxn id="1267" idx="2"/>
            <a:endCxn id="1250" idx="7"/>
          </p:cNvCxnSpPr>
          <p:nvPr/>
        </p:nvCxnSpPr>
        <p:spPr>
          <a:xfrm>
            <a:off x="130644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31" name=""/>
          <p:cNvCxnSpPr>
            <a:stCxn id="1269" idx="2"/>
            <a:endCxn id="1251" idx="7"/>
          </p:cNvCxnSpPr>
          <p:nvPr/>
        </p:nvCxnSpPr>
        <p:spPr>
          <a:xfrm>
            <a:off x="1915920" y="5425920"/>
            <a:ext cx="16236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32" name=""/>
          <p:cNvCxnSpPr>
            <a:stCxn id="1270" idx="2"/>
            <a:endCxn id="1244" idx="7"/>
          </p:cNvCxnSpPr>
          <p:nvPr/>
        </p:nvCxnSpPr>
        <p:spPr>
          <a:xfrm>
            <a:off x="252576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33" name=""/>
          <p:cNvCxnSpPr>
            <a:stCxn id="1271" idx="2"/>
            <a:endCxn id="1245" idx="7"/>
          </p:cNvCxnSpPr>
          <p:nvPr/>
        </p:nvCxnSpPr>
        <p:spPr>
          <a:xfrm>
            <a:off x="3058920" y="5425920"/>
            <a:ext cx="16236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34" name=""/>
          <p:cNvCxnSpPr>
            <a:stCxn id="1272" idx="2"/>
            <a:endCxn id="1246" idx="7"/>
          </p:cNvCxnSpPr>
          <p:nvPr/>
        </p:nvCxnSpPr>
        <p:spPr>
          <a:xfrm>
            <a:off x="366876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35" name=""/>
          <p:cNvCxnSpPr>
            <a:stCxn id="1216" idx="4"/>
            <a:endCxn id="1247" idx="7"/>
          </p:cNvCxnSpPr>
          <p:nvPr/>
        </p:nvCxnSpPr>
        <p:spPr>
          <a:xfrm>
            <a:off x="43048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36" name=""/>
          <p:cNvCxnSpPr>
            <a:stCxn id="1209" idx="4"/>
            <a:endCxn id="1240" idx="7"/>
          </p:cNvCxnSpPr>
          <p:nvPr/>
        </p:nvCxnSpPr>
        <p:spPr>
          <a:xfrm>
            <a:off x="483840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37" name=""/>
          <p:cNvCxnSpPr>
            <a:stCxn id="1210" idx="4"/>
            <a:endCxn id="1241" idx="7"/>
          </p:cNvCxnSpPr>
          <p:nvPr/>
        </p:nvCxnSpPr>
        <p:spPr>
          <a:xfrm>
            <a:off x="54478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38" name=""/>
          <p:cNvCxnSpPr>
            <a:stCxn id="1275" idx="2"/>
            <a:endCxn id="1242" idx="7"/>
          </p:cNvCxnSpPr>
          <p:nvPr/>
        </p:nvCxnSpPr>
        <p:spPr>
          <a:xfrm>
            <a:off x="607176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39" name=""/>
          <p:cNvCxnSpPr>
            <a:stCxn id="1277" idx="2"/>
            <a:endCxn id="1243" idx="7"/>
          </p:cNvCxnSpPr>
          <p:nvPr/>
        </p:nvCxnSpPr>
        <p:spPr>
          <a:xfrm>
            <a:off x="6681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40" name=""/>
          <p:cNvCxnSpPr>
            <a:stCxn id="1278" idx="2"/>
            <a:endCxn id="1236" idx="7"/>
          </p:cNvCxnSpPr>
          <p:nvPr/>
        </p:nvCxnSpPr>
        <p:spPr>
          <a:xfrm>
            <a:off x="721476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41" name=""/>
          <p:cNvCxnSpPr>
            <a:stCxn id="1280" idx="2"/>
            <a:endCxn id="1237" idx="7"/>
          </p:cNvCxnSpPr>
          <p:nvPr/>
        </p:nvCxnSpPr>
        <p:spPr>
          <a:xfrm>
            <a:off x="7824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42" name=""/>
          <p:cNvCxnSpPr>
            <a:stCxn id="1279" idx="2"/>
            <a:endCxn id="1238" idx="7"/>
          </p:cNvCxnSpPr>
          <p:nvPr/>
        </p:nvCxnSpPr>
        <p:spPr>
          <a:xfrm>
            <a:off x="843408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43" name=""/>
          <p:cNvCxnSpPr>
            <a:stCxn id="1281" idx="2"/>
            <a:endCxn id="1239" idx="7"/>
          </p:cNvCxnSpPr>
          <p:nvPr/>
        </p:nvCxnSpPr>
        <p:spPr>
          <a:xfrm>
            <a:off x="8967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44" name=""/>
          <p:cNvCxnSpPr>
            <a:stCxn id="1286" idx="2"/>
            <a:endCxn id="1125" idx="0"/>
          </p:cNvCxnSpPr>
          <p:nvPr/>
        </p:nvCxnSpPr>
        <p:spPr>
          <a:xfrm flipH="1">
            <a:off x="190080" y="853920"/>
            <a:ext cx="53920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345" name=""/>
          <p:cNvCxnSpPr>
            <a:stCxn id="1286" idx="2"/>
            <a:endCxn id="1145" idx="0"/>
          </p:cNvCxnSpPr>
          <p:nvPr/>
        </p:nvCxnSpPr>
        <p:spPr>
          <a:xfrm flipH="1">
            <a:off x="696240" y="853920"/>
            <a:ext cx="48855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346" name=""/>
          <p:cNvCxnSpPr>
            <a:stCxn id="1286" idx="2"/>
            <a:endCxn id="1144" idx="0"/>
          </p:cNvCxnSpPr>
          <p:nvPr/>
        </p:nvCxnSpPr>
        <p:spPr>
          <a:xfrm flipH="1">
            <a:off x="1306080" y="853920"/>
            <a:ext cx="42760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347" name=""/>
          <p:cNvCxnSpPr>
            <a:stCxn id="1286" idx="2"/>
            <a:endCxn id="1146" idx="0"/>
          </p:cNvCxnSpPr>
          <p:nvPr/>
        </p:nvCxnSpPr>
        <p:spPr>
          <a:xfrm flipH="1">
            <a:off x="1915920" y="853920"/>
            <a:ext cx="366624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348" name=""/>
          <p:cNvCxnSpPr>
            <a:stCxn id="1286" idx="2"/>
            <a:endCxn id="1117" idx="0"/>
          </p:cNvCxnSpPr>
          <p:nvPr/>
        </p:nvCxnSpPr>
        <p:spPr>
          <a:xfrm flipH="1">
            <a:off x="4838400" y="853920"/>
            <a:ext cx="7437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349" name=""/>
          <p:cNvCxnSpPr>
            <a:stCxn id="1286" idx="2"/>
            <a:endCxn id="1118" idx="0"/>
          </p:cNvCxnSpPr>
          <p:nvPr/>
        </p:nvCxnSpPr>
        <p:spPr>
          <a:xfrm flipH="1">
            <a:off x="5447520" y="853920"/>
            <a:ext cx="1342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350" name=""/>
          <p:cNvCxnSpPr>
            <a:stCxn id="1286" idx="2"/>
            <a:endCxn id="1119" idx="0"/>
          </p:cNvCxnSpPr>
          <p:nvPr/>
        </p:nvCxnSpPr>
        <p:spPr>
          <a:xfrm>
            <a:off x="5581440" y="853920"/>
            <a:ext cx="47700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351" name=""/>
          <p:cNvCxnSpPr>
            <a:stCxn id="1286" idx="2"/>
            <a:endCxn id="1120" idx="0"/>
          </p:cNvCxnSpPr>
          <p:nvPr/>
        </p:nvCxnSpPr>
        <p:spPr>
          <a:xfrm>
            <a:off x="5581800" y="853920"/>
            <a:ext cx="10864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352" name=""/>
          <p:cNvCxnSpPr>
            <a:stCxn id="1290" idx="2"/>
            <a:endCxn id="1171" idx="0"/>
          </p:cNvCxnSpPr>
          <p:nvPr/>
        </p:nvCxnSpPr>
        <p:spPr>
          <a:xfrm flipH="1">
            <a:off x="190080" y="2758680"/>
            <a:ext cx="5544000" cy="6706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53" name=""/>
          <p:cNvCxnSpPr>
            <a:stCxn id="1290" idx="2"/>
            <a:endCxn id="1191" idx="0"/>
          </p:cNvCxnSpPr>
          <p:nvPr/>
        </p:nvCxnSpPr>
        <p:spPr>
          <a:xfrm flipH="1">
            <a:off x="696600" y="2758680"/>
            <a:ext cx="5037840" cy="6706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54" name=""/>
          <p:cNvCxnSpPr>
            <a:stCxn id="1290" idx="2"/>
            <a:endCxn id="1190" idx="0"/>
          </p:cNvCxnSpPr>
          <p:nvPr/>
        </p:nvCxnSpPr>
        <p:spPr>
          <a:xfrm flipH="1">
            <a:off x="1305720" y="2758680"/>
            <a:ext cx="4428360" cy="6706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55" name=""/>
          <p:cNvCxnSpPr>
            <a:stCxn id="1290" idx="2"/>
            <a:endCxn id="1192" idx="0"/>
          </p:cNvCxnSpPr>
          <p:nvPr/>
        </p:nvCxnSpPr>
        <p:spPr>
          <a:xfrm flipH="1">
            <a:off x="1915560" y="2758680"/>
            <a:ext cx="3818520" cy="6706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56" name=""/>
          <p:cNvCxnSpPr>
            <a:stCxn id="1290" idx="2"/>
            <a:endCxn id="1197" idx="0"/>
          </p:cNvCxnSpPr>
          <p:nvPr/>
        </p:nvCxnSpPr>
        <p:spPr>
          <a:xfrm flipH="1">
            <a:off x="4811400" y="2758680"/>
            <a:ext cx="923040" cy="6706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57" name=""/>
          <p:cNvCxnSpPr>
            <a:stCxn id="1290" idx="2"/>
            <a:endCxn id="1199" idx="0"/>
          </p:cNvCxnSpPr>
          <p:nvPr/>
        </p:nvCxnSpPr>
        <p:spPr>
          <a:xfrm flipH="1">
            <a:off x="5462280" y="2758680"/>
            <a:ext cx="272160" cy="6706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58" name=""/>
          <p:cNvCxnSpPr>
            <a:stCxn id="1290" idx="2"/>
            <a:endCxn id="1198" idx="0"/>
          </p:cNvCxnSpPr>
          <p:nvPr/>
        </p:nvCxnSpPr>
        <p:spPr>
          <a:xfrm>
            <a:off x="5733720" y="2758680"/>
            <a:ext cx="338760" cy="6706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59" name=""/>
          <p:cNvCxnSpPr>
            <a:stCxn id="1290" idx="2"/>
            <a:endCxn id="1166" idx="0"/>
          </p:cNvCxnSpPr>
          <p:nvPr/>
        </p:nvCxnSpPr>
        <p:spPr>
          <a:xfrm>
            <a:off x="5733720" y="2758680"/>
            <a:ext cx="934200" cy="6706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60" name=""/>
          <p:cNvCxnSpPr>
            <a:stCxn id="1294" idx="2"/>
            <a:endCxn id="1217" idx="0"/>
          </p:cNvCxnSpPr>
          <p:nvPr/>
        </p:nvCxnSpPr>
        <p:spPr>
          <a:xfrm flipH="1">
            <a:off x="190080" y="4358880"/>
            <a:ext cx="49348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1361" name=""/>
          <p:cNvCxnSpPr>
            <a:stCxn id="1294" idx="2"/>
            <a:endCxn id="1268" idx="0"/>
          </p:cNvCxnSpPr>
          <p:nvPr/>
        </p:nvCxnSpPr>
        <p:spPr>
          <a:xfrm flipH="1">
            <a:off x="696240" y="4358880"/>
            <a:ext cx="44283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1362" name=""/>
          <p:cNvCxnSpPr>
            <a:stCxn id="1294" idx="2"/>
            <a:endCxn id="1267" idx="0"/>
          </p:cNvCxnSpPr>
          <p:nvPr/>
        </p:nvCxnSpPr>
        <p:spPr>
          <a:xfrm flipH="1">
            <a:off x="1306080" y="4358880"/>
            <a:ext cx="38188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1363" name=""/>
          <p:cNvCxnSpPr>
            <a:stCxn id="1294" idx="2"/>
            <a:endCxn id="1269" idx="0"/>
          </p:cNvCxnSpPr>
          <p:nvPr/>
        </p:nvCxnSpPr>
        <p:spPr>
          <a:xfrm flipH="1">
            <a:off x="1915920" y="4358880"/>
            <a:ext cx="320904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1364" name=""/>
          <p:cNvCxnSpPr>
            <a:stCxn id="1294" idx="2"/>
            <a:endCxn id="1209" idx="0"/>
          </p:cNvCxnSpPr>
          <p:nvPr/>
        </p:nvCxnSpPr>
        <p:spPr>
          <a:xfrm flipH="1">
            <a:off x="4838400" y="4358880"/>
            <a:ext cx="2865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1365" name=""/>
          <p:cNvCxnSpPr>
            <a:stCxn id="1294" idx="2"/>
            <a:endCxn id="1276" idx="0"/>
          </p:cNvCxnSpPr>
          <p:nvPr/>
        </p:nvCxnSpPr>
        <p:spPr>
          <a:xfrm>
            <a:off x="5124240" y="4358880"/>
            <a:ext cx="3387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1366" name=""/>
          <p:cNvCxnSpPr>
            <a:stCxn id="1294" idx="2"/>
            <a:endCxn id="1275" idx="0"/>
          </p:cNvCxnSpPr>
          <p:nvPr/>
        </p:nvCxnSpPr>
        <p:spPr>
          <a:xfrm>
            <a:off x="5124600" y="4358880"/>
            <a:ext cx="94824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1367" name=""/>
          <p:cNvCxnSpPr>
            <a:stCxn id="1294" idx="2"/>
            <a:endCxn id="1277" idx="0"/>
          </p:cNvCxnSpPr>
          <p:nvPr/>
        </p:nvCxnSpPr>
        <p:spPr>
          <a:xfrm>
            <a:off x="5124600" y="4358880"/>
            <a:ext cx="15580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1368" name=""/>
          <p:cNvCxnSpPr>
            <a:stCxn id="1287" idx="2"/>
            <a:endCxn id="1125" idx="0"/>
          </p:cNvCxnSpPr>
          <p:nvPr/>
        </p:nvCxnSpPr>
        <p:spPr>
          <a:xfrm flipH="1">
            <a:off x="189720" y="853920"/>
            <a:ext cx="324396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69" name=""/>
          <p:cNvCxnSpPr>
            <a:stCxn id="1287" idx="2"/>
            <a:endCxn id="1145" idx="0"/>
          </p:cNvCxnSpPr>
          <p:nvPr/>
        </p:nvCxnSpPr>
        <p:spPr>
          <a:xfrm flipH="1">
            <a:off x="696960" y="853920"/>
            <a:ext cx="273708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70" name=""/>
          <p:cNvCxnSpPr>
            <a:stCxn id="1287" idx="2"/>
            <a:endCxn id="1151" idx="0"/>
          </p:cNvCxnSpPr>
          <p:nvPr/>
        </p:nvCxnSpPr>
        <p:spPr>
          <a:xfrm>
            <a:off x="3433680" y="853920"/>
            <a:ext cx="137880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71" name=""/>
          <p:cNvCxnSpPr>
            <a:stCxn id="1287" idx="2"/>
            <a:endCxn id="1153" idx="0"/>
          </p:cNvCxnSpPr>
          <p:nvPr/>
        </p:nvCxnSpPr>
        <p:spPr>
          <a:xfrm>
            <a:off x="3433680" y="853920"/>
            <a:ext cx="202968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72" name=""/>
          <p:cNvCxnSpPr>
            <a:stCxn id="1287" idx="2"/>
            <a:endCxn id="1152" idx="0"/>
          </p:cNvCxnSpPr>
          <p:nvPr/>
        </p:nvCxnSpPr>
        <p:spPr>
          <a:xfrm>
            <a:off x="3433320" y="853920"/>
            <a:ext cx="263916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73" name=""/>
          <p:cNvCxnSpPr>
            <a:stCxn id="1287" idx="2"/>
            <a:endCxn id="1154" idx="0"/>
          </p:cNvCxnSpPr>
          <p:nvPr/>
        </p:nvCxnSpPr>
        <p:spPr>
          <a:xfrm>
            <a:off x="3433320" y="853920"/>
            <a:ext cx="324900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74" name=""/>
          <p:cNvCxnSpPr>
            <a:stCxn id="1291" idx="2"/>
            <a:endCxn id="1171" idx="0"/>
          </p:cNvCxnSpPr>
          <p:nvPr/>
        </p:nvCxnSpPr>
        <p:spPr>
          <a:xfrm flipH="1">
            <a:off x="190080" y="2758680"/>
            <a:ext cx="316800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375" name=""/>
          <p:cNvCxnSpPr>
            <a:stCxn id="1291" idx="2"/>
            <a:endCxn id="1191" idx="0"/>
          </p:cNvCxnSpPr>
          <p:nvPr/>
        </p:nvCxnSpPr>
        <p:spPr>
          <a:xfrm flipH="1">
            <a:off x="696240" y="2758680"/>
            <a:ext cx="266148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376" name=""/>
          <p:cNvCxnSpPr>
            <a:stCxn id="1291" idx="2"/>
            <a:endCxn id="1197" idx="0"/>
          </p:cNvCxnSpPr>
          <p:nvPr/>
        </p:nvCxnSpPr>
        <p:spPr>
          <a:xfrm>
            <a:off x="3357360" y="2758680"/>
            <a:ext cx="145476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377" name=""/>
          <p:cNvCxnSpPr>
            <a:stCxn id="1291" idx="2"/>
            <a:endCxn id="1199" idx="0"/>
          </p:cNvCxnSpPr>
          <p:nvPr/>
        </p:nvCxnSpPr>
        <p:spPr>
          <a:xfrm>
            <a:off x="3357360" y="2758680"/>
            <a:ext cx="210564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378" name=""/>
          <p:cNvCxnSpPr>
            <a:stCxn id="1291" idx="2"/>
            <a:endCxn id="1165" idx="0"/>
          </p:cNvCxnSpPr>
          <p:nvPr/>
        </p:nvCxnSpPr>
        <p:spPr>
          <a:xfrm>
            <a:off x="3357360" y="2758680"/>
            <a:ext cx="270108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379" name=""/>
          <p:cNvCxnSpPr>
            <a:stCxn id="1291" idx="2"/>
            <a:endCxn id="1200" idx="0"/>
          </p:cNvCxnSpPr>
          <p:nvPr/>
        </p:nvCxnSpPr>
        <p:spPr>
          <a:xfrm>
            <a:off x="3357720" y="2758680"/>
            <a:ext cx="332496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380" name=""/>
          <p:cNvCxnSpPr>
            <a:stCxn id="1295" idx="2"/>
            <a:endCxn id="1217" idx="0"/>
          </p:cNvCxnSpPr>
          <p:nvPr/>
        </p:nvCxnSpPr>
        <p:spPr>
          <a:xfrm flipH="1">
            <a:off x="189720" y="4358880"/>
            <a:ext cx="370116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1381" name=""/>
          <p:cNvCxnSpPr>
            <a:stCxn id="1295" idx="2"/>
            <a:endCxn id="1268" idx="0"/>
          </p:cNvCxnSpPr>
          <p:nvPr/>
        </p:nvCxnSpPr>
        <p:spPr>
          <a:xfrm flipH="1">
            <a:off x="696600" y="4358880"/>
            <a:ext cx="319464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1382" name=""/>
          <p:cNvCxnSpPr>
            <a:stCxn id="1295" idx="2"/>
            <a:endCxn id="1274" idx="0"/>
          </p:cNvCxnSpPr>
          <p:nvPr/>
        </p:nvCxnSpPr>
        <p:spPr>
          <a:xfrm>
            <a:off x="3890880" y="4358880"/>
            <a:ext cx="92160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1383" name=""/>
          <p:cNvCxnSpPr>
            <a:stCxn id="1295" idx="2"/>
            <a:endCxn id="1276" idx="0"/>
          </p:cNvCxnSpPr>
          <p:nvPr/>
        </p:nvCxnSpPr>
        <p:spPr>
          <a:xfrm>
            <a:off x="3890880" y="4358880"/>
            <a:ext cx="157248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1384" name=""/>
          <p:cNvCxnSpPr>
            <a:stCxn id="1295" idx="2"/>
            <a:endCxn id="1275" idx="0"/>
          </p:cNvCxnSpPr>
          <p:nvPr/>
        </p:nvCxnSpPr>
        <p:spPr>
          <a:xfrm>
            <a:off x="3890520" y="4358880"/>
            <a:ext cx="218196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1385" name=""/>
          <p:cNvCxnSpPr>
            <a:stCxn id="1295" idx="2"/>
            <a:endCxn id="1277" idx="0"/>
          </p:cNvCxnSpPr>
          <p:nvPr/>
        </p:nvCxnSpPr>
        <p:spPr>
          <a:xfrm>
            <a:off x="3890520" y="4358880"/>
            <a:ext cx="279144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sp>
        <p:nvSpPr>
          <p:cNvPr id="1386" name=""/>
          <p:cNvSpPr/>
          <p:nvPr/>
        </p:nvSpPr>
        <p:spPr>
          <a:xfrm>
            <a:off x="107244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626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68192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291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82492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434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404424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4577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74488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13540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635472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88788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810720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749772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861984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5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2" name=""/>
          <p:cNvCxnSpPr>
            <a:stCxn id="1287" idx="2"/>
            <a:endCxn id="1127" idx="0"/>
          </p:cNvCxnSpPr>
          <p:nvPr/>
        </p:nvCxnSpPr>
        <p:spPr>
          <a:xfrm flipH="1">
            <a:off x="1333080" y="853920"/>
            <a:ext cx="210096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3" name=""/>
          <p:cNvCxnSpPr>
            <a:stCxn id="1287" idx="2"/>
            <a:endCxn id="1146" idx="0"/>
          </p:cNvCxnSpPr>
          <p:nvPr/>
        </p:nvCxnSpPr>
        <p:spPr>
          <a:xfrm flipH="1">
            <a:off x="1915560" y="853920"/>
            <a:ext cx="151812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4" name=""/>
          <p:cNvCxnSpPr>
            <a:stCxn id="1291" idx="2"/>
            <a:endCxn id="1190" idx="0"/>
          </p:cNvCxnSpPr>
          <p:nvPr/>
        </p:nvCxnSpPr>
        <p:spPr>
          <a:xfrm flipH="1">
            <a:off x="1306080" y="2758680"/>
            <a:ext cx="205200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405" name=""/>
          <p:cNvCxnSpPr>
            <a:stCxn id="1291" idx="2"/>
            <a:endCxn id="1192" idx="0"/>
          </p:cNvCxnSpPr>
          <p:nvPr/>
        </p:nvCxnSpPr>
        <p:spPr>
          <a:xfrm flipH="1">
            <a:off x="1915920" y="2758680"/>
            <a:ext cx="144216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406" name=""/>
          <p:cNvCxnSpPr>
            <a:stCxn id="1295" idx="2"/>
            <a:endCxn id="1267" idx="0"/>
          </p:cNvCxnSpPr>
          <p:nvPr/>
        </p:nvCxnSpPr>
        <p:spPr>
          <a:xfrm flipH="1">
            <a:off x="1305720" y="4358880"/>
            <a:ext cx="258516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1407" name=""/>
          <p:cNvCxnSpPr>
            <a:stCxn id="1295" idx="2"/>
            <a:endCxn id="1269" idx="0"/>
          </p:cNvCxnSpPr>
          <p:nvPr/>
        </p:nvCxnSpPr>
        <p:spPr>
          <a:xfrm flipH="1">
            <a:off x="1915560" y="4358880"/>
            <a:ext cx="197532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1408" name=""/>
          <p:cNvCxnSpPr>
            <a:stCxn id="1283" idx="1"/>
            <a:endCxn id="1287" idx="0"/>
          </p:cNvCxnSpPr>
          <p:nvPr/>
        </p:nvCxnSpPr>
        <p:spPr>
          <a:xfrm flipH="1">
            <a:off x="3433320" y="198000"/>
            <a:ext cx="758160" cy="25956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409" name=""/>
          <p:cNvCxnSpPr>
            <a:stCxn id="1282" idx="6"/>
            <a:endCxn id="1286" idx="0"/>
          </p:cNvCxnSpPr>
          <p:nvPr/>
        </p:nvCxnSpPr>
        <p:spPr>
          <a:xfrm>
            <a:off x="4571640" y="190080"/>
            <a:ext cx="1010520" cy="2671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410" name=""/>
          <p:cNvCxnSpPr>
            <a:stCxn id="1283" idx="2"/>
            <a:endCxn id="1291" idx="0"/>
          </p:cNvCxnSpPr>
          <p:nvPr/>
        </p:nvCxnSpPr>
        <p:spPr>
          <a:xfrm flipH="1">
            <a:off x="3357000" y="396720"/>
            <a:ext cx="1011960" cy="19663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411" name=""/>
          <p:cNvCxnSpPr>
            <a:stCxn id="1283" idx="2"/>
            <a:endCxn id="1289" idx="0"/>
          </p:cNvCxnSpPr>
          <p:nvPr/>
        </p:nvCxnSpPr>
        <p:spPr>
          <a:xfrm>
            <a:off x="4368600" y="396720"/>
            <a:ext cx="1384920" cy="19663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412" name=""/>
          <p:cNvCxnSpPr>
            <a:stCxn id="1283" idx="2"/>
            <a:endCxn id="1295" idx="0"/>
          </p:cNvCxnSpPr>
          <p:nvPr/>
        </p:nvCxnSpPr>
        <p:spPr>
          <a:xfrm flipH="1">
            <a:off x="3890520" y="396360"/>
            <a:ext cx="478800" cy="35665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413" name=""/>
          <p:cNvCxnSpPr>
            <a:stCxn id="1283" idx="2"/>
            <a:endCxn id="1294" idx="0"/>
          </p:cNvCxnSpPr>
          <p:nvPr/>
        </p:nvCxnSpPr>
        <p:spPr>
          <a:xfrm>
            <a:off x="4368600" y="396360"/>
            <a:ext cx="756360" cy="35665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46C-9C48-4EFF-A4D4-4665889A2D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7010280" y="28195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76201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822960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87631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6483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25780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867280" y="28195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4771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3623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895480" y="28195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35053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11480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335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14300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1752480" y="28195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0" name=""/>
          <p:cNvCxnSpPr>
            <a:stCxn id="1426" idx="6"/>
            <a:endCxn id="1427" idx="2"/>
          </p:cNvCxnSpPr>
          <p:nvPr/>
        </p:nvCxnSpPr>
        <p:spPr>
          <a:xfrm>
            <a:off x="380880" y="300960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431" name=""/>
          <p:cNvCxnSpPr>
            <a:stCxn id="1427" idx="6"/>
            <a:endCxn id="1428" idx="2"/>
          </p:cNvCxnSpPr>
          <p:nvPr/>
        </p:nvCxnSpPr>
        <p:spPr>
          <a:xfrm>
            <a:off x="91404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432" name=""/>
          <p:cNvCxnSpPr>
            <a:stCxn id="1428" idx="6"/>
            <a:endCxn id="1429" idx="2"/>
          </p:cNvCxnSpPr>
          <p:nvPr/>
        </p:nvCxnSpPr>
        <p:spPr>
          <a:xfrm>
            <a:off x="152352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433" name=""/>
          <p:cNvCxnSpPr>
            <a:stCxn id="1429" idx="6"/>
            <a:endCxn id="1422" idx="2"/>
          </p:cNvCxnSpPr>
          <p:nvPr/>
        </p:nvCxnSpPr>
        <p:spPr>
          <a:xfrm>
            <a:off x="213336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434" name=""/>
          <p:cNvCxnSpPr>
            <a:stCxn id="1422" idx="6"/>
            <a:endCxn id="1423" idx="2"/>
          </p:cNvCxnSpPr>
          <p:nvPr/>
        </p:nvCxnSpPr>
        <p:spPr>
          <a:xfrm>
            <a:off x="2742840" y="300960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435" name=""/>
          <p:cNvCxnSpPr>
            <a:stCxn id="1423" idx="6"/>
            <a:endCxn id="1424" idx="2"/>
          </p:cNvCxnSpPr>
          <p:nvPr/>
        </p:nvCxnSpPr>
        <p:spPr>
          <a:xfrm>
            <a:off x="327636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436" name=""/>
          <p:cNvCxnSpPr>
            <a:stCxn id="1424" idx="6"/>
            <a:endCxn id="1425" idx="2"/>
          </p:cNvCxnSpPr>
          <p:nvPr/>
        </p:nvCxnSpPr>
        <p:spPr>
          <a:xfrm>
            <a:off x="388584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437" name=""/>
          <p:cNvCxnSpPr>
            <a:stCxn id="1425" idx="6"/>
            <a:endCxn id="1418" idx="2"/>
          </p:cNvCxnSpPr>
          <p:nvPr/>
        </p:nvCxnSpPr>
        <p:spPr>
          <a:xfrm>
            <a:off x="4495680" y="300960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438" name=""/>
          <p:cNvCxnSpPr>
            <a:stCxn id="1418" idx="6"/>
            <a:endCxn id="1419" idx="2"/>
          </p:cNvCxnSpPr>
          <p:nvPr/>
        </p:nvCxnSpPr>
        <p:spPr>
          <a:xfrm>
            <a:off x="502884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439" name=""/>
          <p:cNvCxnSpPr>
            <a:stCxn id="1419" idx="6"/>
            <a:endCxn id="1420" idx="2"/>
          </p:cNvCxnSpPr>
          <p:nvPr/>
        </p:nvCxnSpPr>
        <p:spPr>
          <a:xfrm>
            <a:off x="563832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440" name=""/>
          <p:cNvCxnSpPr>
            <a:stCxn id="1420" idx="6"/>
            <a:endCxn id="1421" idx="2"/>
          </p:cNvCxnSpPr>
          <p:nvPr/>
        </p:nvCxnSpPr>
        <p:spPr>
          <a:xfrm>
            <a:off x="624816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441" name=""/>
          <p:cNvCxnSpPr>
            <a:stCxn id="1421" idx="6"/>
            <a:endCxn id="1414" idx="2"/>
          </p:cNvCxnSpPr>
          <p:nvPr/>
        </p:nvCxnSpPr>
        <p:spPr>
          <a:xfrm>
            <a:off x="6857640" y="300960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442" name=""/>
          <p:cNvCxnSpPr>
            <a:stCxn id="1414" idx="6"/>
            <a:endCxn id="1415" idx="2"/>
          </p:cNvCxnSpPr>
          <p:nvPr/>
        </p:nvCxnSpPr>
        <p:spPr>
          <a:xfrm>
            <a:off x="739116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443" name=""/>
          <p:cNvCxnSpPr>
            <a:stCxn id="1415" idx="6"/>
            <a:endCxn id="1416" idx="2"/>
          </p:cNvCxnSpPr>
          <p:nvPr/>
        </p:nvCxnSpPr>
        <p:spPr>
          <a:xfrm>
            <a:off x="800064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444" name=""/>
          <p:cNvCxnSpPr>
            <a:stCxn id="1416" idx="6"/>
            <a:endCxn id="1417" idx="2"/>
          </p:cNvCxnSpPr>
          <p:nvPr/>
        </p:nvCxnSpPr>
        <p:spPr>
          <a:xfrm>
            <a:off x="8610480" y="300960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445" name=""/>
          <p:cNvSpPr/>
          <p:nvPr/>
        </p:nvSpPr>
        <p:spPr>
          <a:xfrm>
            <a:off x="107136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6152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68084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229032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82384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343332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04316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457632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799600" y="28195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189760" y="28195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409080" y="28195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942600" y="28195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8161560" y="28195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7552080" y="28195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674560" y="28195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7010280" y="51973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76201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822960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87631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46483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25780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867280" y="51973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4771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23623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895480" y="51973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35053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411480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335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4300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752480" y="51973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6" name=""/>
          <p:cNvCxnSpPr>
            <a:stCxn id="1472" idx="6"/>
            <a:endCxn id="1473" idx="2"/>
          </p:cNvCxnSpPr>
          <p:nvPr/>
        </p:nvCxnSpPr>
        <p:spPr>
          <a:xfrm>
            <a:off x="380880" y="538776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77" name=""/>
          <p:cNvCxnSpPr>
            <a:stCxn id="1473" idx="6"/>
            <a:endCxn id="1474" idx="2"/>
          </p:cNvCxnSpPr>
          <p:nvPr/>
        </p:nvCxnSpPr>
        <p:spPr>
          <a:xfrm>
            <a:off x="91404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78" name=""/>
          <p:cNvCxnSpPr>
            <a:stCxn id="1474" idx="6"/>
            <a:endCxn id="1475" idx="2"/>
          </p:cNvCxnSpPr>
          <p:nvPr/>
        </p:nvCxnSpPr>
        <p:spPr>
          <a:xfrm>
            <a:off x="152352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79" name=""/>
          <p:cNvCxnSpPr>
            <a:stCxn id="1475" idx="6"/>
            <a:endCxn id="1468" idx="2"/>
          </p:cNvCxnSpPr>
          <p:nvPr/>
        </p:nvCxnSpPr>
        <p:spPr>
          <a:xfrm>
            <a:off x="213336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80" name=""/>
          <p:cNvCxnSpPr>
            <a:stCxn id="1468" idx="6"/>
            <a:endCxn id="1469" idx="2"/>
          </p:cNvCxnSpPr>
          <p:nvPr/>
        </p:nvCxnSpPr>
        <p:spPr>
          <a:xfrm>
            <a:off x="2742840" y="538776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81" name=""/>
          <p:cNvCxnSpPr>
            <a:stCxn id="1469" idx="6"/>
            <a:endCxn id="1470" idx="2"/>
          </p:cNvCxnSpPr>
          <p:nvPr/>
        </p:nvCxnSpPr>
        <p:spPr>
          <a:xfrm>
            <a:off x="327636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82" name=""/>
          <p:cNvCxnSpPr>
            <a:stCxn id="1470" idx="6"/>
            <a:endCxn id="1471" idx="2"/>
          </p:cNvCxnSpPr>
          <p:nvPr/>
        </p:nvCxnSpPr>
        <p:spPr>
          <a:xfrm>
            <a:off x="388584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83" name=""/>
          <p:cNvCxnSpPr>
            <a:stCxn id="1471" idx="6"/>
            <a:endCxn id="1464" idx="2"/>
          </p:cNvCxnSpPr>
          <p:nvPr/>
        </p:nvCxnSpPr>
        <p:spPr>
          <a:xfrm>
            <a:off x="4495680" y="538776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84" name=""/>
          <p:cNvCxnSpPr>
            <a:stCxn id="1464" idx="6"/>
            <a:endCxn id="1465" idx="2"/>
          </p:cNvCxnSpPr>
          <p:nvPr/>
        </p:nvCxnSpPr>
        <p:spPr>
          <a:xfrm>
            <a:off x="502884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85" name=""/>
          <p:cNvCxnSpPr>
            <a:stCxn id="1465" idx="6"/>
            <a:endCxn id="1466" idx="2"/>
          </p:cNvCxnSpPr>
          <p:nvPr/>
        </p:nvCxnSpPr>
        <p:spPr>
          <a:xfrm>
            <a:off x="563832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86" name=""/>
          <p:cNvCxnSpPr>
            <a:stCxn id="1466" idx="6"/>
            <a:endCxn id="1467" idx="2"/>
          </p:cNvCxnSpPr>
          <p:nvPr/>
        </p:nvCxnSpPr>
        <p:spPr>
          <a:xfrm>
            <a:off x="624816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87" name=""/>
          <p:cNvCxnSpPr>
            <a:stCxn id="1467" idx="6"/>
            <a:endCxn id="1460" idx="2"/>
          </p:cNvCxnSpPr>
          <p:nvPr/>
        </p:nvCxnSpPr>
        <p:spPr>
          <a:xfrm>
            <a:off x="6857640" y="538776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88" name=""/>
          <p:cNvCxnSpPr>
            <a:stCxn id="1460" idx="6"/>
            <a:endCxn id="1461" idx="2"/>
          </p:cNvCxnSpPr>
          <p:nvPr/>
        </p:nvCxnSpPr>
        <p:spPr>
          <a:xfrm>
            <a:off x="739116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89" name=""/>
          <p:cNvCxnSpPr>
            <a:stCxn id="1461" idx="6"/>
            <a:endCxn id="1462" idx="2"/>
          </p:cNvCxnSpPr>
          <p:nvPr/>
        </p:nvCxnSpPr>
        <p:spPr>
          <a:xfrm>
            <a:off x="800064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90" name=""/>
          <p:cNvCxnSpPr>
            <a:stCxn id="1462" idx="6"/>
            <a:endCxn id="1463" idx="2"/>
          </p:cNvCxnSpPr>
          <p:nvPr/>
        </p:nvCxnSpPr>
        <p:spPr>
          <a:xfrm>
            <a:off x="8610480" y="5387760"/>
            <a:ext cx="15336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1491" name=""/>
          <p:cNvSpPr/>
          <p:nvPr/>
        </p:nvSpPr>
        <p:spPr>
          <a:xfrm>
            <a:off x="4267080" y="914400"/>
            <a:ext cx="381240" cy="380880"/>
          </a:xfrm>
          <a:prstGeom prst="ellipse">
            <a:avLst/>
          </a:prstGeom>
          <a:solidFill>
            <a:srgbClr val="c18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4269240" y="914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90512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5638680" y="3733920"/>
            <a:ext cx="381240" cy="3808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563800" y="37339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20148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7" name=""/>
          <p:cNvCxnSpPr>
            <a:stCxn id="1492" idx="1"/>
            <a:endCxn id="1496" idx="0"/>
          </p:cNvCxnSpPr>
          <p:nvPr/>
        </p:nvCxnSpPr>
        <p:spPr>
          <a:xfrm flipH="1">
            <a:off x="3432960" y="1112400"/>
            <a:ext cx="834120" cy="79308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498" name=""/>
          <p:cNvCxnSpPr>
            <a:stCxn id="1492" idx="3"/>
            <a:endCxn id="1495" idx="0"/>
          </p:cNvCxnSpPr>
          <p:nvPr/>
        </p:nvCxnSpPr>
        <p:spPr>
          <a:xfrm>
            <a:off x="4620960" y="1112400"/>
            <a:ext cx="1189800" cy="262188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499" name=""/>
          <p:cNvCxnSpPr>
            <a:stCxn id="1446" idx="2"/>
            <a:endCxn id="1473" idx="0"/>
          </p:cNvCxnSpPr>
          <p:nvPr/>
        </p:nvCxnSpPr>
        <p:spPr>
          <a:xfrm>
            <a:off x="696600" y="3215880"/>
            <a:ext cx="277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00" name=""/>
          <p:cNvCxnSpPr>
            <a:stCxn id="1428" idx="4"/>
            <a:endCxn id="1474" idx="0"/>
          </p:cNvCxnSpPr>
          <p:nvPr/>
        </p:nvCxnSpPr>
        <p:spPr>
          <a:xfrm>
            <a:off x="1333080" y="3200040"/>
            <a:ext cx="1080" cy="1997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01" name=""/>
          <p:cNvCxnSpPr>
            <a:stCxn id="1447" idx="2"/>
            <a:endCxn id="1475" idx="0"/>
          </p:cNvCxnSpPr>
          <p:nvPr/>
        </p:nvCxnSpPr>
        <p:spPr>
          <a:xfrm>
            <a:off x="1915920" y="3215880"/>
            <a:ext cx="277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02" name=""/>
          <p:cNvCxnSpPr>
            <a:stCxn id="1448" idx="2"/>
            <a:endCxn id="1468" idx="0"/>
          </p:cNvCxnSpPr>
          <p:nvPr/>
        </p:nvCxnSpPr>
        <p:spPr>
          <a:xfrm>
            <a:off x="2525400" y="3215880"/>
            <a:ext cx="277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03" name=""/>
          <p:cNvCxnSpPr>
            <a:stCxn id="1449" idx="2"/>
            <a:endCxn id="1469" idx="0"/>
          </p:cNvCxnSpPr>
          <p:nvPr/>
        </p:nvCxnSpPr>
        <p:spPr>
          <a:xfrm>
            <a:off x="3058920" y="3215880"/>
            <a:ext cx="277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04" name=""/>
          <p:cNvCxnSpPr>
            <a:stCxn id="1450" idx="2"/>
            <a:endCxn id="1470" idx="0"/>
          </p:cNvCxnSpPr>
          <p:nvPr/>
        </p:nvCxnSpPr>
        <p:spPr>
          <a:xfrm>
            <a:off x="3668400" y="3215880"/>
            <a:ext cx="277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05" name=""/>
          <p:cNvCxnSpPr>
            <a:stCxn id="1451" idx="2"/>
            <a:endCxn id="1471" idx="0"/>
          </p:cNvCxnSpPr>
          <p:nvPr/>
        </p:nvCxnSpPr>
        <p:spPr>
          <a:xfrm>
            <a:off x="4277880" y="3215880"/>
            <a:ext cx="277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06" name=""/>
          <p:cNvCxnSpPr>
            <a:stCxn id="1452" idx="2"/>
            <a:endCxn id="1464" idx="0"/>
          </p:cNvCxnSpPr>
          <p:nvPr/>
        </p:nvCxnSpPr>
        <p:spPr>
          <a:xfrm>
            <a:off x="4811400" y="3215880"/>
            <a:ext cx="277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07" name=""/>
          <p:cNvCxnSpPr>
            <a:stCxn id="1454" idx="2"/>
            <a:endCxn id="1465" idx="0"/>
          </p:cNvCxnSpPr>
          <p:nvPr/>
        </p:nvCxnSpPr>
        <p:spPr>
          <a:xfrm flipH="1">
            <a:off x="5447880" y="3215880"/>
            <a:ext cx="151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08" name=""/>
          <p:cNvCxnSpPr>
            <a:stCxn id="1420" idx="4"/>
            <a:endCxn id="1466" idx="0"/>
          </p:cNvCxnSpPr>
          <p:nvPr/>
        </p:nvCxnSpPr>
        <p:spPr>
          <a:xfrm>
            <a:off x="6057720" y="3200040"/>
            <a:ext cx="1080" cy="1997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09" name=""/>
          <p:cNvCxnSpPr>
            <a:stCxn id="1455" idx="2"/>
            <a:endCxn id="1467" idx="0"/>
          </p:cNvCxnSpPr>
          <p:nvPr/>
        </p:nvCxnSpPr>
        <p:spPr>
          <a:xfrm flipH="1">
            <a:off x="6667200" y="3215880"/>
            <a:ext cx="151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10" name=""/>
          <p:cNvCxnSpPr>
            <a:stCxn id="1456" idx="2"/>
            <a:endCxn id="1460" idx="0"/>
          </p:cNvCxnSpPr>
          <p:nvPr/>
        </p:nvCxnSpPr>
        <p:spPr>
          <a:xfrm flipH="1">
            <a:off x="7200360" y="3215880"/>
            <a:ext cx="1476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11" name=""/>
          <p:cNvCxnSpPr>
            <a:stCxn id="1458" idx="2"/>
            <a:endCxn id="1461" idx="0"/>
          </p:cNvCxnSpPr>
          <p:nvPr/>
        </p:nvCxnSpPr>
        <p:spPr>
          <a:xfrm flipH="1">
            <a:off x="7810200" y="3215880"/>
            <a:ext cx="151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12" name=""/>
          <p:cNvCxnSpPr>
            <a:stCxn id="1457" idx="2"/>
            <a:endCxn id="1462" idx="0"/>
          </p:cNvCxnSpPr>
          <p:nvPr/>
        </p:nvCxnSpPr>
        <p:spPr>
          <a:xfrm flipH="1">
            <a:off x="8419680" y="3215880"/>
            <a:ext cx="151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13" name=""/>
          <p:cNvCxnSpPr>
            <a:stCxn id="1459" idx="2"/>
            <a:endCxn id="1463" idx="0"/>
          </p:cNvCxnSpPr>
          <p:nvPr/>
        </p:nvCxnSpPr>
        <p:spPr>
          <a:xfrm>
            <a:off x="8947080" y="3215880"/>
            <a:ext cx="720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14" name=""/>
          <p:cNvCxnSpPr>
            <a:stCxn id="1495" idx="2"/>
            <a:endCxn id="1426" idx="4"/>
          </p:cNvCxnSpPr>
          <p:nvPr/>
        </p:nvCxnSpPr>
        <p:spPr>
          <a:xfrm flipH="1" flipV="1">
            <a:off x="189720" y="3200040"/>
            <a:ext cx="5620680" cy="9309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15" name=""/>
          <p:cNvCxnSpPr>
            <a:stCxn id="1495" idx="2"/>
            <a:endCxn id="1446" idx="2"/>
          </p:cNvCxnSpPr>
          <p:nvPr/>
        </p:nvCxnSpPr>
        <p:spPr>
          <a:xfrm flipH="1" flipV="1">
            <a:off x="696600" y="3215880"/>
            <a:ext cx="5114160" cy="91512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16" name=""/>
          <p:cNvCxnSpPr>
            <a:stCxn id="1495" idx="2"/>
            <a:endCxn id="1445" idx="2"/>
          </p:cNvCxnSpPr>
          <p:nvPr/>
        </p:nvCxnSpPr>
        <p:spPr>
          <a:xfrm flipH="1" flipV="1">
            <a:off x="1305720" y="3215880"/>
            <a:ext cx="4504680" cy="91512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17" name=""/>
          <p:cNvCxnSpPr>
            <a:stCxn id="1495" idx="2"/>
            <a:endCxn id="1447" idx="2"/>
          </p:cNvCxnSpPr>
          <p:nvPr/>
        </p:nvCxnSpPr>
        <p:spPr>
          <a:xfrm flipH="1" flipV="1">
            <a:off x="1915560" y="3215880"/>
            <a:ext cx="3894840" cy="91512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18" name=""/>
          <p:cNvCxnSpPr>
            <a:stCxn id="1495" idx="2"/>
            <a:endCxn id="1452" idx="2"/>
          </p:cNvCxnSpPr>
          <p:nvPr/>
        </p:nvCxnSpPr>
        <p:spPr>
          <a:xfrm flipH="1" flipV="1">
            <a:off x="4811760" y="3215880"/>
            <a:ext cx="999000" cy="91512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19" name=""/>
          <p:cNvCxnSpPr>
            <a:stCxn id="1495" idx="2"/>
            <a:endCxn id="1454" idx="2"/>
          </p:cNvCxnSpPr>
          <p:nvPr/>
        </p:nvCxnSpPr>
        <p:spPr>
          <a:xfrm flipH="1" flipV="1">
            <a:off x="5462280" y="3215880"/>
            <a:ext cx="348480" cy="91512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20" name=""/>
          <p:cNvCxnSpPr>
            <a:stCxn id="1495" idx="2"/>
            <a:endCxn id="1453" idx="2"/>
          </p:cNvCxnSpPr>
          <p:nvPr/>
        </p:nvCxnSpPr>
        <p:spPr>
          <a:xfrm flipV="1">
            <a:off x="5810040" y="3215880"/>
            <a:ext cx="262080" cy="91512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21" name=""/>
          <p:cNvCxnSpPr>
            <a:stCxn id="1495" idx="2"/>
            <a:endCxn id="1455" idx="2"/>
          </p:cNvCxnSpPr>
          <p:nvPr/>
        </p:nvCxnSpPr>
        <p:spPr>
          <a:xfrm flipV="1">
            <a:off x="5810040" y="3215880"/>
            <a:ext cx="872280" cy="91512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22" name=""/>
          <p:cNvCxnSpPr>
            <a:stCxn id="1496" idx="2"/>
            <a:endCxn id="1426" idx="0"/>
          </p:cNvCxnSpPr>
          <p:nvPr/>
        </p:nvCxnSpPr>
        <p:spPr>
          <a:xfrm flipH="1">
            <a:off x="189720" y="2301840"/>
            <a:ext cx="324396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23" name=""/>
          <p:cNvCxnSpPr>
            <a:stCxn id="1496" idx="2"/>
            <a:endCxn id="1446" idx="0"/>
          </p:cNvCxnSpPr>
          <p:nvPr/>
        </p:nvCxnSpPr>
        <p:spPr>
          <a:xfrm flipH="1">
            <a:off x="696960" y="2301840"/>
            <a:ext cx="273708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24" name=""/>
          <p:cNvCxnSpPr>
            <a:stCxn id="1496" idx="2"/>
            <a:endCxn id="1452" idx="0"/>
          </p:cNvCxnSpPr>
          <p:nvPr/>
        </p:nvCxnSpPr>
        <p:spPr>
          <a:xfrm>
            <a:off x="3433680" y="2301840"/>
            <a:ext cx="137880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25" name=""/>
          <p:cNvCxnSpPr>
            <a:stCxn id="1496" idx="2"/>
            <a:endCxn id="1454" idx="0"/>
          </p:cNvCxnSpPr>
          <p:nvPr/>
        </p:nvCxnSpPr>
        <p:spPr>
          <a:xfrm>
            <a:off x="3433680" y="2301840"/>
            <a:ext cx="202968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26" name=""/>
          <p:cNvCxnSpPr>
            <a:stCxn id="1496" idx="2"/>
            <a:endCxn id="1453" idx="0"/>
          </p:cNvCxnSpPr>
          <p:nvPr/>
        </p:nvCxnSpPr>
        <p:spPr>
          <a:xfrm>
            <a:off x="3433320" y="2301840"/>
            <a:ext cx="263916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27" name=""/>
          <p:cNvCxnSpPr>
            <a:stCxn id="1496" idx="2"/>
            <a:endCxn id="1455" idx="0"/>
          </p:cNvCxnSpPr>
          <p:nvPr/>
        </p:nvCxnSpPr>
        <p:spPr>
          <a:xfrm>
            <a:off x="3433320" y="2301840"/>
            <a:ext cx="324900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28" name=""/>
          <p:cNvSpPr/>
          <p:nvPr/>
        </p:nvSpPr>
        <p:spPr>
          <a:xfrm>
            <a:off x="107244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4626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168192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2914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282492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34344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404424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5774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74488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513540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35472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88788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810720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49772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861984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4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4" name=""/>
          <p:cNvCxnSpPr>
            <a:stCxn id="1426" idx="4"/>
            <a:endCxn id="1543" idx="0"/>
          </p:cNvCxnSpPr>
          <p:nvPr/>
        </p:nvCxnSpPr>
        <p:spPr>
          <a:xfrm>
            <a:off x="190080" y="3200040"/>
            <a:ext cx="3564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45" name=""/>
          <p:cNvSpPr/>
          <p:nvPr/>
        </p:nvSpPr>
        <p:spPr>
          <a:xfrm>
            <a:off x="79246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780960" y="175248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in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7" name=""/>
          <p:cNvCxnSpPr>
            <a:stCxn id="1496" idx="2"/>
            <a:endCxn id="1445" idx="0"/>
          </p:cNvCxnSpPr>
          <p:nvPr/>
        </p:nvCxnSpPr>
        <p:spPr>
          <a:xfrm flipH="1">
            <a:off x="1305720" y="2301840"/>
            <a:ext cx="212796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48" name=""/>
          <p:cNvCxnSpPr>
            <a:stCxn id="1496" idx="2"/>
            <a:endCxn id="1447" idx="0"/>
          </p:cNvCxnSpPr>
          <p:nvPr/>
        </p:nvCxnSpPr>
        <p:spPr>
          <a:xfrm flipH="1">
            <a:off x="1915560" y="2301840"/>
            <a:ext cx="151812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49" name=""/>
          <p:cNvSpPr/>
          <p:nvPr/>
        </p:nvSpPr>
        <p:spPr>
          <a:xfrm>
            <a:off x="0" y="1676520"/>
            <a:ext cx="914400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1" name=""/>
          <p:cNvCxnSpPr>
            <a:stCxn id="1495" idx="2"/>
            <a:endCxn id="1543" idx="0"/>
          </p:cNvCxnSpPr>
          <p:nvPr/>
        </p:nvCxnSpPr>
        <p:spPr>
          <a:xfrm flipH="1">
            <a:off x="225000" y="4130280"/>
            <a:ext cx="5585760" cy="10515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52" name=""/>
          <p:cNvCxnSpPr>
            <a:stCxn id="1495" idx="2"/>
            <a:endCxn id="1529" idx="0"/>
          </p:cNvCxnSpPr>
          <p:nvPr/>
        </p:nvCxnSpPr>
        <p:spPr>
          <a:xfrm flipH="1">
            <a:off x="682200" y="4130280"/>
            <a:ext cx="5128560" cy="10515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53" name=""/>
          <p:cNvCxnSpPr>
            <a:stCxn id="1495" idx="2"/>
            <a:endCxn id="1528" idx="0"/>
          </p:cNvCxnSpPr>
          <p:nvPr/>
        </p:nvCxnSpPr>
        <p:spPr>
          <a:xfrm flipH="1">
            <a:off x="1292040" y="4130280"/>
            <a:ext cx="4518720" cy="10515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54" name=""/>
          <p:cNvCxnSpPr>
            <a:stCxn id="1495" idx="2"/>
            <a:endCxn id="1530" idx="0"/>
          </p:cNvCxnSpPr>
          <p:nvPr/>
        </p:nvCxnSpPr>
        <p:spPr>
          <a:xfrm flipH="1">
            <a:off x="1901160" y="4130280"/>
            <a:ext cx="3909240" cy="10515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55" name=""/>
          <p:cNvCxnSpPr>
            <a:stCxn id="1495" idx="2"/>
            <a:endCxn id="1531" idx="0"/>
          </p:cNvCxnSpPr>
          <p:nvPr/>
        </p:nvCxnSpPr>
        <p:spPr>
          <a:xfrm flipH="1">
            <a:off x="2511000" y="4130280"/>
            <a:ext cx="3299760" cy="10515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56" name=""/>
          <p:cNvCxnSpPr>
            <a:stCxn id="1495" idx="2"/>
            <a:endCxn id="1532" idx="0"/>
          </p:cNvCxnSpPr>
          <p:nvPr/>
        </p:nvCxnSpPr>
        <p:spPr>
          <a:xfrm flipH="1">
            <a:off x="3044520" y="4130280"/>
            <a:ext cx="2766240" cy="10515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57" name=""/>
          <p:cNvCxnSpPr>
            <a:stCxn id="1495" idx="2"/>
            <a:endCxn id="1533" idx="0"/>
          </p:cNvCxnSpPr>
          <p:nvPr/>
        </p:nvCxnSpPr>
        <p:spPr>
          <a:xfrm flipH="1">
            <a:off x="3654000" y="4130280"/>
            <a:ext cx="2156400" cy="10515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58" name=""/>
          <p:cNvCxnSpPr>
            <a:stCxn id="1495" idx="2"/>
            <a:endCxn id="1534" idx="0"/>
          </p:cNvCxnSpPr>
          <p:nvPr/>
        </p:nvCxnSpPr>
        <p:spPr>
          <a:xfrm flipH="1">
            <a:off x="4263480" y="4130280"/>
            <a:ext cx="1546920" cy="10515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59" name=""/>
          <p:cNvCxnSpPr>
            <a:stCxn id="1495" idx="2"/>
            <a:endCxn id="1535" idx="0"/>
          </p:cNvCxnSpPr>
          <p:nvPr/>
        </p:nvCxnSpPr>
        <p:spPr>
          <a:xfrm flipH="1">
            <a:off x="4797000" y="4130280"/>
            <a:ext cx="1013760" cy="10515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60" name=""/>
          <p:cNvCxnSpPr>
            <a:stCxn id="1495" idx="2"/>
            <a:endCxn id="1537" idx="0"/>
          </p:cNvCxnSpPr>
          <p:nvPr/>
        </p:nvCxnSpPr>
        <p:spPr>
          <a:xfrm flipH="1">
            <a:off x="5392440" y="4130280"/>
            <a:ext cx="418320" cy="10515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61" name=""/>
          <p:cNvCxnSpPr>
            <a:stCxn id="1495" idx="2"/>
            <a:endCxn id="1536" idx="0"/>
          </p:cNvCxnSpPr>
          <p:nvPr/>
        </p:nvCxnSpPr>
        <p:spPr>
          <a:xfrm>
            <a:off x="5810040" y="4130280"/>
            <a:ext cx="192600" cy="10515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62" name=""/>
          <p:cNvCxnSpPr>
            <a:stCxn id="1495" idx="2"/>
            <a:endCxn id="1538" idx="0"/>
          </p:cNvCxnSpPr>
          <p:nvPr/>
        </p:nvCxnSpPr>
        <p:spPr>
          <a:xfrm>
            <a:off x="5810400" y="4130280"/>
            <a:ext cx="802080" cy="10515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63" name=""/>
          <p:cNvCxnSpPr>
            <a:stCxn id="1495" idx="2"/>
            <a:endCxn id="1539" idx="0"/>
          </p:cNvCxnSpPr>
          <p:nvPr/>
        </p:nvCxnSpPr>
        <p:spPr>
          <a:xfrm>
            <a:off x="5810400" y="4130280"/>
            <a:ext cx="1335600" cy="10515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64" name=""/>
          <p:cNvCxnSpPr>
            <a:stCxn id="1495" idx="2"/>
            <a:endCxn id="1541" idx="0"/>
          </p:cNvCxnSpPr>
          <p:nvPr/>
        </p:nvCxnSpPr>
        <p:spPr>
          <a:xfrm>
            <a:off x="5810040" y="4130280"/>
            <a:ext cx="1945080" cy="10515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65" name=""/>
          <p:cNvCxnSpPr>
            <a:stCxn id="1495" idx="2"/>
            <a:endCxn id="1540" idx="0"/>
          </p:cNvCxnSpPr>
          <p:nvPr/>
        </p:nvCxnSpPr>
        <p:spPr>
          <a:xfrm>
            <a:off x="5810040" y="4130280"/>
            <a:ext cx="2554920" cy="10515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66" name=""/>
          <p:cNvCxnSpPr>
            <a:stCxn id="1495" idx="2"/>
            <a:endCxn id="1542" idx="0"/>
          </p:cNvCxnSpPr>
          <p:nvPr/>
        </p:nvCxnSpPr>
        <p:spPr>
          <a:xfrm>
            <a:off x="5810040" y="4130280"/>
            <a:ext cx="3067560" cy="10515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A2E-D2EE-4E41-AD6F-07ECCBD1FC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2590920" y="38862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733920" y="38862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1" name=""/>
          <p:cNvCxnSpPr>
            <a:stCxn id="1568" idx="6"/>
            <a:endCxn id="1569" idx="2"/>
          </p:cNvCxnSpPr>
          <p:nvPr/>
        </p:nvCxnSpPr>
        <p:spPr>
          <a:xfrm>
            <a:off x="2971440" y="407628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72" name=""/>
          <p:cNvCxnSpPr>
            <a:stCxn id="1569" idx="6"/>
            <a:endCxn id="1570" idx="2"/>
          </p:cNvCxnSpPr>
          <p:nvPr/>
        </p:nvCxnSpPr>
        <p:spPr>
          <a:xfrm>
            <a:off x="3504960" y="407628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73" name=""/>
          <p:cNvCxnSpPr>
            <a:stCxn id="1570" idx="6"/>
          </p:cNvCxnSpPr>
          <p:nvPr/>
        </p:nvCxnSpPr>
        <p:spPr>
          <a:xfrm>
            <a:off x="4114440" y="407628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74" name=""/>
          <p:cNvSpPr/>
          <p:nvPr/>
        </p:nvSpPr>
        <p:spPr>
          <a:xfrm>
            <a:off x="3661920" y="3886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3052440" y="3886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3429000" y="550224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962520" y="550224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4572000" y="550224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3962520" y="1371600"/>
            <a:ext cx="380880" cy="380880"/>
          </a:xfrm>
          <a:prstGeom prst="ellipse">
            <a:avLst/>
          </a:prstGeom>
          <a:solidFill>
            <a:srgbClr val="c18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9643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352680" y="2590920"/>
            <a:ext cx="38124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4648320" y="2590920"/>
            <a:ext cx="380880" cy="3808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573080" y="25909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3277800" y="2590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5" name=""/>
          <p:cNvCxnSpPr>
            <a:stCxn id="1580" idx="1"/>
            <a:endCxn id="1584" idx="0"/>
          </p:cNvCxnSpPr>
          <p:nvPr/>
        </p:nvCxnSpPr>
        <p:spPr>
          <a:xfrm flipH="1">
            <a:off x="3509280" y="1569960"/>
            <a:ext cx="453240" cy="102168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586" name=""/>
          <p:cNvCxnSpPr>
            <a:stCxn id="1580" idx="3"/>
            <a:endCxn id="1583" idx="0"/>
          </p:cNvCxnSpPr>
          <p:nvPr/>
        </p:nvCxnSpPr>
        <p:spPr>
          <a:xfrm>
            <a:off x="4316400" y="1569960"/>
            <a:ext cx="504000" cy="102168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587" name=""/>
          <p:cNvCxnSpPr>
            <a:stCxn id="1575" idx="2"/>
            <a:endCxn id="1577" idx="0"/>
          </p:cNvCxnSpPr>
          <p:nvPr/>
        </p:nvCxnSpPr>
        <p:spPr>
          <a:xfrm>
            <a:off x="3287520" y="4282560"/>
            <a:ext cx="8658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88" name=""/>
          <p:cNvCxnSpPr>
            <a:stCxn id="1570" idx="4"/>
            <a:endCxn id="1578" idx="0"/>
          </p:cNvCxnSpPr>
          <p:nvPr/>
        </p:nvCxnSpPr>
        <p:spPr>
          <a:xfrm>
            <a:off x="3924360" y="4266720"/>
            <a:ext cx="838800" cy="12358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89" name=""/>
          <p:cNvCxnSpPr>
            <a:stCxn id="1583" idx="2"/>
            <a:endCxn id="1568" idx="0"/>
          </p:cNvCxnSpPr>
          <p:nvPr/>
        </p:nvCxnSpPr>
        <p:spPr>
          <a:xfrm flipH="1">
            <a:off x="2781000" y="2987640"/>
            <a:ext cx="203904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90" name=""/>
          <p:cNvCxnSpPr>
            <a:stCxn id="1583" idx="2"/>
            <a:endCxn id="1575" idx="0"/>
          </p:cNvCxnSpPr>
          <p:nvPr/>
        </p:nvCxnSpPr>
        <p:spPr>
          <a:xfrm flipH="1">
            <a:off x="3287160" y="2987640"/>
            <a:ext cx="153252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91" name=""/>
          <p:cNvCxnSpPr>
            <a:stCxn id="1583" idx="2"/>
            <a:endCxn id="1574" idx="0"/>
          </p:cNvCxnSpPr>
          <p:nvPr/>
        </p:nvCxnSpPr>
        <p:spPr>
          <a:xfrm flipH="1">
            <a:off x="3897000" y="2987640"/>
            <a:ext cx="92304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92" name=""/>
          <p:cNvCxnSpPr>
            <a:stCxn id="1584" idx="2"/>
            <a:endCxn id="1568" idx="0"/>
          </p:cNvCxnSpPr>
          <p:nvPr/>
        </p:nvCxnSpPr>
        <p:spPr>
          <a:xfrm flipH="1">
            <a:off x="2781000" y="2987640"/>
            <a:ext cx="72936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93" name=""/>
          <p:cNvCxnSpPr>
            <a:stCxn id="1584" idx="2"/>
            <a:endCxn id="1575" idx="0"/>
          </p:cNvCxnSpPr>
          <p:nvPr/>
        </p:nvCxnSpPr>
        <p:spPr>
          <a:xfrm flipH="1">
            <a:off x="3287160" y="2987640"/>
            <a:ext cx="22284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94" name=""/>
          <p:cNvSpPr/>
          <p:nvPr/>
        </p:nvSpPr>
        <p:spPr>
          <a:xfrm>
            <a:off x="4501440" y="548640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3891600" y="548640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3434400" y="548640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7" name=""/>
          <p:cNvCxnSpPr>
            <a:stCxn id="1568" idx="4"/>
            <a:endCxn id="1596" idx="0"/>
          </p:cNvCxnSpPr>
          <p:nvPr/>
        </p:nvCxnSpPr>
        <p:spPr>
          <a:xfrm>
            <a:off x="2781000" y="4266720"/>
            <a:ext cx="87372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98" name=""/>
          <p:cNvCxnSpPr>
            <a:stCxn id="1584" idx="2"/>
            <a:endCxn id="1574" idx="0"/>
          </p:cNvCxnSpPr>
          <p:nvPr/>
        </p:nvCxnSpPr>
        <p:spPr>
          <a:xfrm>
            <a:off x="3510000" y="2987640"/>
            <a:ext cx="38808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aphicFrame>
        <p:nvGraphicFramePr>
          <p:cNvPr id="1599" name=""/>
          <p:cNvGraphicFramePr/>
          <p:nvPr/>
        </p:nvGraphicFramePr>
        <p:xfrm>
          <a:off x="152280" y="1219320"/>
          <a:ext cx="2514600" cy="838080"/>
        </p:xfrm>
        <a:graphic>
          <a:graphicData uri="http://schemas.openxmlformats.org/drawingml/2006/table">
            <a:tbl>
              <a:tblPr/>
              <a:tblGrid>
                <a:gridCol w="685800"/>
                <a:gridCol w="609840"/>
                <a:gridCol w="609480"/>
                <a:gridCol w="6094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0" name=""/>
          <p:cNvSpPr/>
          <p:nvPr/>
        </p:nvSpPr>
        <p:spPr>
          <a:xfrm>
            <a:off x="156600" y="304920"/>
            <a:ext cx="32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priors can be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the H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1" name=""/>
          <p:cNvGraphicFramePr/>
          <p:nvPr/>
        </p:nvGraphicFramePr>
        <p:xfrm>
          <a:off x="5486400" y="496800"/>
          <a:ext cx="2133720" cy="238104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  <a:gridCol w="533520"/>
                <a:gridCol w="53352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2" name=""/>
          <p:cNvSpPr/>
          <p:nvPr/>
        </p:nvSpPr>
        <p:spPr>
          <a:xfrm flipH="1" flipV="1">
            <a:off x="5486400" y="4968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5412240" y="649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569916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5716800" y="49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6021720" y="19224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H3|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7" name=""/>
          <p:cNvGraphicFramePr/>
          <p:nvPr/>
        </p:nvGraphicFramePr>
        <p:xfrm>
          <a:off x="380880" y="2438280"/>
          <a:ext cx="2133360" cy="19051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  <a:gridCol w="533520"/>
                <a:gridCol w="53316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8" name=""/>
          <p:cNvSpPr/>
          <p:nvPr/>
        </p:nvSpPr>
        <p:spPr>
          <a:xfrm flipH="1" flipV="1">
            <a:off x="3808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307080" y="2590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11280" y="243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916560" y="213372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L3|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2" name=""/>
          <p:cNvGraphicFramePr/>
          <p:nvPr/>
        </p:nvGraphicFramePr>
        <p:xfrm>
          <a:off x="152280" y="4495680"/>
          <a:ext cx="2590920" cy="1473480"/>
        </p:xfrm>
        <a:graphic>
          <a:graphicData uri="http://schemas.openxmlformats.org/drawingml/2006/table">
            <a:tbl>
              <a:tblPr/>
              <a:tblGrid>
                <a:gridCol w="752400"/>
                <a:gridCol w="18385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3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I3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L3,H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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H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3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=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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H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3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3" name=""/>
          <p:cNvSpPr/>
          <p:nvPr/>
        </p:nvSpPr>
        <p:spPr>
          <a:xfrm>
            <a:off x="2697120" y="6095880"/>
            <a:ext cx="220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4" name=""/>
          <p:cNvGraphicFramePr/>
          <p:nvPr/>
        </p:nvGraphicFramePr>
        <p:xfrm>
          <a:off x="5029200" y="3530520"/>
          <a:ext cx="4114800" cy="3327480"/>
        </p:xfrm>
        <a:graphic>
          <a:graphicData uri="http://schemas.openxmlformats.org/drawingml/2006/table">
            <a:tbl>
              <a:tblPr/>
              <a:tblGrid>
                <a:gridCol w="588960"/>
                <a:gridCol w="585720"/>
                <a:gridCol w="588960"/>
                <a:gridCol w="587520"/>
                <a:gridCol w="588960"/>
                <a:gridCol w="585720"/>
                <a:gridCol w="58896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5" name=""/>
          <p:cNvSpPr/>
          <p:nvPr/>
        </p:nvSpPr>
        <p:spPr>
          <a:xfrm flipH="1" flipV="1">
            <a:off x="5028840" y="353052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033880" y="368316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3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5195160" y="3530520"/>
            <a:ext cx="52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3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5274360" y="3124080"/>
            <a:ext cx="178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I3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I3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L3,H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7641000" y="31496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H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-L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0" name=""/>
          <p:cNvCxnSpPr>
            <a:stCxn id="1583" idx="2"/>
            <a:endCxn id="1596" idx="0"/>
          </p:cNvCxnSpPr>
          <p:nvPr/>
        </p:nvCxnSpPr>
        <p:spPr>
          <a:xfrm flipH="1">
            <a:off x="3653640" y="2987280"/>
            <a:ext cx="1166040" cy="24994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621" name=""/>
          <p:cNvCxnSpPr>
            <a:stCxn id="1583" idx="2"/>
            <a:endCxn id="1595" idx="0"/>
          </p:cNvCxnSpPr>
          <p:nvPr/>
        </p:nvCxnSpPr>
        <p:spPr>
          <a:xfrm flipH="1">
            <a:off x="4110840" y="2987280"/>
            <a:ext cx="708840" cy="24994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622" name=""/>
          <p:cNvCxnSpPr>
            <a:stCxn id="1583" idx="2"/>
            <a:endCxn id="1594" idx="0"/>
          </p:cNvCxnSpPr>
          <p:nvPr/>
        </p:nvCxnSpPr>
        <p:spPr>
          <a:xfrm flipH="1">
            <a:off x="4720680" y="2987280"/>
            <a:ext cx="99000" cy="24994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D52-74D2-4905-A863-568ABBB6BE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instance specified by a configuration might not “show up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1: in CPD for the last possible start time, if the process hasn’t started yet, force it to sta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nly works if the window of possible start times is shorter than the process dur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2: Add another Markov chain to keep track of whether the process has started.  Then use solution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386-1702-4944-BB06-1FFA682F12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"/>
          <p:cNvSpPr/>
          <p:nvPr/>
        </p:nvSpPr>
        <p:spPr>
          <a:xfrm>
            <a:off x="7010280" y="28195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76201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822960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87631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46483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25780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867280" y="28195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64771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23623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2895480" y="28195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35053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411480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114300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1752480" y="28195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1" name=""/>
          <p:cNvCxnSpPr>
            <a:stCxn id="1637" idx="6"/>
            <a:endCxn id="1638" idx="2"/>
          </p:cNvCxnSpPr>
          <p:nvPr/>
        </p:nvCxnSpPr>
        <p:spPr>
          <a:xfrm>
            <a:off x="380880" y="300960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642" name=""/>
          <p:cNvCxnSpPr>
            <a:stCxn id="1638" idx="6"/>
            <a:endCxn id="1639" idx="2"/>
          </p:cNvCxnSpPr>
          <p:nvPr/>
        </p:nvCxnSpPr>
        <p:spPr>
          <a:xfrm>
            <a:off x="91404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643" name=""/>
          <p:cNvCxnSpPr>
            <a:stCxn id="1639" idx="6"/>
            <a:endCxn id="1640" idx="2"/>
          </p:cNvCxnSpPr>
          <p:nvPr/>
        </p:nvCxnSpPr>
        <p:spPr>
          <a:xfrm>
            <a:off x="152352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644" name=""/>
          <p:cNvCxnSpPr>
            <a:stCxn id="1640" idx="6"/>
            <a:endCxn id="1633" idx="2"/>
          </p:cNvCxnSpPr>
          <p:nvPr/>
        </p:nvCxnSpPr>
        <p:spPr>
          <a:xfrm>
            <a:off x="213336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645" name=""/>
          <p:cNvCxnSpPr>
            <a:stCxn id="1633" idx="6"/>
            <a:endCxn id="1634" idx="2"/>
          </p:cNvCxnSpPr>
          <p:nvPr/>
        </p:nvCxnSpPr>
        <p:spPr>
          <a:xfrm>
            <a:off x="2742840" y="300960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646" name=""/>
          <p:cNvCxnSpPr>
            <a:stCxn id="1634" idx="6"/>
            <a:endCxn id="1635" idx="2"/>
          </p:cNvCxnSpPr>
          <p:nvPr/>
        </p:nvCxnSpPr>
        <p:spPr>
          <a:xfrm>
            <a:off x="327636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647" name=""/>
          <p:cNvCxnSpPr>
            <a:stCxn id="1635" idx="6"/>
            <a:endCxn id="1636" idx="2"/>
          </p:cNvCxnSpPr>
          <p:nvPr/>
        </p:nvCxnSpPr>
        <p:spPr>
          <a:xfrm>
            <a:off x="388584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648" name=""/>
          <p:cNvCxnSpPr>
            <a:stCxn id="1636" idx="6"/>
            <a:endCxn id="1629" idx="2"/>
          </p:cNvCxnSpPr>
          <p:nvPr/>
        </p:nvCxnSpPr>
        <p:spPr>
          <a:xfrm>
            <a:off x="4495680" y="300960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649" name=""/>
          <p:cNvCxnSpPr>
            <a:stCxn id="1629" idx="6"/>
            <a:endCxn id="1630" idx="2"/>
          </p:cNvCxnSpPr>
          <p:nvPr/>
        </p:nvCxnSpPr>
        <p:spPr>
          <a:xfrm>
            <a:off x="502884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650" name=""/>
          <p:cNvCxnSpPr>
            <a:stCxn id="1630" idx="6"/>
            <a:endCxn id="1631" idx="2"/>
          </p:cNvCxnSpPr>
          <p:nvPr/>
        </p:nvCxnSpPr>
        <p:spPr>
          <a:xfrm>
            <a:off x="563832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651" name=""/>
          <p:cNvCxnSpPr>
            <a:stCxn id="1631" idx="6"/>
            <a:endCxn id="1632" idx="2"/>
          </p:cNvCxnSpPr>
          <p:nvPr/>
        </p:nvCxnSpPr>
        <p:spPr>
          <a:xfrm>
            <a:off x="624816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652" name=""/>
          <p:cNvCxnSpPr>
            <a:stCxn id="1632" idx="6"/>
            <a:endCxn id="1625" idx="2"/>
          </p:cNvCxnSpPr>
          <p:nvPr/>
        </p:nvCxnSpPr>
        <p:spPr>
          <a:xfrm>
            <a:off x="6857640" y="300960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653" name=""/>
          <p:cNvCxnSpPr>
            <a:stCxn id="1625" idx="6"/>
            <a:endCxn id="1626" idx="2"/>
          </p:cNvCxnSpPr>
          <p:nvPr/>
        </p:nvCxnSpPr>
        <p:spPr>
          <a:xfrm>
            <a:off x="739116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654" name=""/>
          <p:cNvCxnSpPr>
            <a:stCxn id="1626" idx="6"/>
            <a:endCxn id="1627" idx="2"/>
          </p:cNvCxnSpPr>
          <p:nvPr/>
        </p:nvCxnSpPr>
        <p:spPr>
          <a:xfrm>
            <a:off x="800064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655" name=""/>
          <p:cNvCxnSpPr>
            <a:stCxn id="1627" idx="6"/>
            <a:endCxn id="1628" idx="2"/>
          </p:cNvCxnSpPr>
          <p:nvPr/>
        </p:nvCxnSpPr>
        <p:spPr>
          <a:xfrm>
            <a:off x="8610480" y="300960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656" name=""/>
          <p:cNvSpPr/>
          <p:nvPr/>
        </p:nvSpPr>
        <p:spPr>
          <a:xfrm>
            <a:off x="107136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46152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168084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229032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282384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343332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404316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457632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5799600" y="28195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5189760" y="28195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6409080" y="28195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942600" y="28195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8161560" y="28195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7552080" y="28195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8674560" y="28195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7010280" y="51973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76201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822960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87631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46483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525780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5867280" y="51973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64771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23623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2895480" y="51973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35053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11480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5335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14300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752480" y="51973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7" name=""/>
          <p:cNvCxnSpPr>
            <a:stCxn id="1683" idx="6"/>
            <a:endCxn id="1684" idx="2"/>
          </p:cNvCxnSpPr>
          <p:nvPr/>
        </p:nvCxnSpPr>
        <p:spPr>
          <a:xfrm>
            <a:off x="380880" y="538776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88" name=""/>
          <p:cNvCxnSpPr>
            <a:stCxn id="1684" idx="6"/>
            <a:endCxn id="1685" idx="2"/>
          </p:cNvCxnSpPr>
          <p:nvPr/>
        </p:nvCxnSpPr>
        <p:spPr>
          <a:xfrm>
            <a:off x="91404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89" name=""/>
          <p:cNvCxnSpPr>
            <a:stCxn id="1685" idx="6"/>
            <a:endCxn id="1686" idx="2"/>
          </p:cNvCxnSpPr>
          <p:nvPr/>
        </p:nvCxnSpPr>
        <p:spPr>
          <a:xfrm>
            <a:off x="152352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90" name=""/>
          <p:cNvCxnSpPr>
            <a:stCxn id="1686" idx="6"/>
            <a:endCxn id="1679" idx="2"/>
          </p:cNvCxnSpPr>
          <p:nvPr/>
        </p:nvCxnSpPr>
        <p:spPr>
          <a:xfrm>
            <a:off x="213336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91" name=""/>
          <p:cNvCxnSpPr>
            <a:stCxn id="1679" idx="6"/>
            <a:endCxn id="1680" idx="2"/>
          </p:cNvCxnSpPr>
          <p:nvPr/>
        </p:nvCxnSpPr>
        <p:spPr>
          <a:xfrm>
            <a:off x="2742840" y="538776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92" name=""/>
          <p:cNvCxnSpPr>
            <a:stCxn id="1680" idx="6"/>
            <a:endCxn id="1681" idx="2"/>
          </p:cNvCxnSpPr>
          <p:nvPr/>
        </p:nvCxnSpPr>
        <p:spPr>
          <a:xfrm>
            <a:off x="327636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93" name=""/>
          <p:cNvCxnSpPr>
            <a:stCxn id="1681" idx="6"/>
            <a:endCxn id="1682" idx="2"/>
          </p:cNvCxnSpPr>
          <p:nvPr/>
        </p:nvCxnSpPr>
        <p:spPr>
          <a:xfrm>
            <a:off x="388584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94" name=""/>
          <p:cNvCxnSpPr>
            <a:stCxn id="1682" idx="6"/>
            <a:endCxn id="1675" idx="2"/>
          </p:cNvCxnSpPr>
          <p:nvPr/>
        </p:nvCxnSpPr>
        <p:spPr>
          <a:xfrm>
            <a:off x="4495680" y="538776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95" name=""/>
          <p:cNvCxnSpPr>
            <a:stCxn id="1675" idx="6"/>
            <a:endCxn id="1676" idx="2"/>
          </p:cNvCxnSpPr>
          <p:nvPr/>
        </p:nvCxnSpPr>
        <p:spPr>
          <a:xfrm>
            <a:off x="502884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96" name=""/>
          <p:cNvCxnSpPr>
            <a:stCxn id="1676" idx="6"/>
            <a:endCxn id="1677" idx="2"/>
          </p:cNvCxnSpPr>
          <p:nvPr/>
        </p:nvCxnSpPr>
        <p:spPr>
          <a:xfrm>
            <a:off x="563832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97" name=""/>
          <p:cNvCxnSpPr>
            <a:stCxn id="1677" idx="6"/>
            <a:endCxn id="1678" idx="2"/>
          </p:cNvCxnSpPr>
          <p:nvPr/>
        </p:nvCxnSpPr>
        <p:spPr>
          <a:xfrm>
            <a:off x="624816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98" name=""/>
          <p:cNvCxnSpPr>
            <a:stCxn id="1678" idx="6"/>
            <a:endCxn id="1671" idx="2"/>
          </p:cNvCxnSpPr>
          <p:nvPr/>
        </p:nvCxnSpPr>
        <p:spPr>
          <a:xfrm>
            <a:off x="6857640" y="538776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99" name=""/>
          <p:cNvCxnSpPr>
            <a:stCxn id="1671" idx="6"/>
            <a:endCxn id="1672" idx="2"/>
          </p:cNvCxnSpPr>
          <p:nvPr/>
        </p:nvCxnSpPr>
        <p:spPr>
          <a:xfrm>
            <a:off x="739116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700" name=""/>
          <p:cNvCxnSpPr>
            <a:stCxn id="1672" idx="6"/>
            <a:endCxn id="1673" idx="2"/>
          </p:cNvCxnSpPr>
          <p:nvPr/>
        </p:nvCxnSpPr>
        <p:spPr>
          <a:xfrm>
            <a:off x="800064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701" name=""/>
          <p:cNvCxnSpPr>
            <a:stCxn id="1673" idx="6"/>
            <a:endCxn id="1674" idx="2"/>
          </p:cNvCxnSpPr>
          <p:nvPr/>
        </p:nvCxnSpPr>
        <p:spPr>
          <a:xfrm>
            <a:off x="8610480" y="5387760"/>
            <a:ext cx="15336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1702" name=""/>
          <p:cNvSpPr/>
          <p:nvPr/>
        </p:nvSpPr>
        <p:spPr>
          <a:xfrm>
            <a:off x="4267080" y="914400"/>
            <a:ext cx="381240" cy="380880"/>
          </a:xfrm>
          <a:prstGeom prst="ellipse">
            <a:avLst/>
          </a:prstGeom>
          <a:solidFill>
            <a:srgbClr val="c18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269240" y="914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3276720" y="190512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315200" y="3809880"/>
            <a:ext cx="380880" cy="3812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239960" y="38098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320148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8" name=""/>
          <p:cNvCxnSpPr>
            <a:stCxn id="1703" idx="1"/>
            <a:endCxn id="1707" idx="0"/>
          </p:cNvCxnSpPr>
          <p:nvPr/>
        </p:nvCxnSpPr>
        <p:spPr>
          <a:xfrm flipH="1">
            <a:off x="3432960" y="1112400"/>
            <a:ext cx="834120" cy="79308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709" name=""/>
          <p:cNvCxnSpPr>
            <a:stCxn id="1703" idx="3"/>
            <a:endCxn id="1706" idx="0"/>
          </p:cNvCxnSpPr>
          <p:nvPr/>
        </p:nvCxnSpPr>
        <p:spPr>
          <a:xfrm>
            <a:off x="4620960" y="1112760"/>
            <a:ext cx="2865960" cy="269748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710" name=""/>
          <p:cNvCxnSpPr>
            <a:stCxn id="1657" idx="2"/>
            <a:endCxn id="1684" idx="0"/>
          </p:cNvCxnSpPr>
          <p:nvPr/>
        </p:nvCxnSpPr>
        <p:spPr>
          <a:xfrm>
            <a:off x="696600" y="3215880"/>
            <a:ext cx="277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11" name=""/>
          <p:cNvCxnSpPr>
            <a:stCxn id="1639" idx="4"/>
            <a:endCxn id="1685" idx="0"/>
          </p:cNvCxnSpPr>
          <p:nvPr/>
        </p:nvCxnSpPr>
        <p:spPr>
          <a:xfrm>
            <a:off x="1333080" y="3200040"/>
            <a:ext cx="1080" cy="1997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12" name=""/>
          <p:cNvCxnSpPr>
            <a:stCxn id="1658" idx="2"/>
            <a:endCxn id="1686" idx="0"/>
          </p:cNvCxnSpPr>
          <p:nvPr/>
        </p:nvCxnSpPr>
        <p:spPr>
          <a:xfrm>
            <a:off x="1915920" y="3215880"/>
            <a:ext cx="277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13" name=""/>
          <p:cNvCxnSpPr>
            <a:stCxn id="1659" idx="2"/>
            <a:endCxn id="1679" idx="0"/>
          </p:cNvCxnSpPr>
          <p:nvPr/>
        </p:nvCxnSpPr>
        <p:spPr>
          <a:xfrm>
            <a:off x="2525400" y="3215880"/>
            <a:ext cx="277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14" name=""/>
          <p:cNvCxnSpPr>
            <a:stCxn id="1660" idx="2"/>
            <a:endCxn id="1680" idx="0"/>
          </p:cNvCxnSpPr>
          <p:nvPr/>
        </p:nvCxnSpPr>
        <p:spPr>
          <a:xfrm>
            <a:off x="3058920" y="3215880"/>
            <a:ext cx="277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15" name=""/>
          <p:cNvCxnSpPr>
            <a:stCxn id="1661" idx="2"/>
            <a:endCxn id="1681" idx="0"/>
          </p:cNvCxnSpPr>
          <p:nvPr/>
        </p:nvCxnSpPr>
        <p:spPr>
          <a:xfrm>
            <a:off x="3668400" y="3215880"/>
            <a:ext cx="277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16" name=""/>
          <p:cNvCxnSpPr>
            <a:stCxn id="1662" idx="2"/>
            <a:endCxn id="1682" idx="0"/>
          </p:cNvCxnSpPr>
          <p:nvPr/>
        </p:nvCxnSpPr>
        <p:spPr>
          <a:xfrm>
            <a:off x="4277880" y="3215880"/>
            <a:ext cx="277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17" name=""/>
          <p:cNvCxnSpPr>
            <a:stCxn id="1663" idx="2"/>
            <a:endCxn id="1675" idx="0"/>
          </p:cNvCxnSpPr>
          <p:nvPr/>
        </p:nvCxnSpPr>
        <p:spPr>
          <a:xfrm>
            <a:off x="4811400" y="3215880"/>
            <a:ext cx="277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18" name=""/>
          <p:cNvCxnSpPr>
            <a:stCxn id="1665" idx="2"/>
            <a:endCxn id="1676" idx="0"/>
          </p:cNvCxnSpPr>
          <p:nvPr/>
        </p:nvCxnSpPr>
        <p:spPr>
          <a:xfrm flipH="1">
            <a:off x="5447880" y="3215880"/>
            <a:ext cx="151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19" name=""/>
          <p:cNvCxnSpPr>
            <a:stCxn id="1631" idx="4"/>
            <a:endCxn id="1677" idx="0"/>
          </p:cNvCxnSpPr>
          <p:nvPr/>
        </p:nvCxnSpPr>
        <p:spPr>
          <a:xfrm>
            <a:off x="6057720" y="3200040"/>
            <a:ext cx="1080" cy="1997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20" name=""/>
          <p:cNvCxnSpPr>
            <a:stCxn id="1666" idx="2"/>
            <a:endCxn id="1678" idx="0"/>
          </p:cNvCxnSpPr>
          <p:nvPr/>
        </p:nvCxnSpPr>
        <p:spPr>
          <a:xfrm flipH="1">
            <a:off x="6667200" y="3215880"/>
            <a:ext cx="151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21" name=""/>
          <p:cNvCxnSpPr>
            <a:stCxn id="1667" idx="2"/>
            <a:endCxn id="1671" idx="0"/>
          </p:cNvCxnSpPr>
          <p:nvPr/>
        </p:nvCxnSpPr>
        <p:spPr>
          <a:xfrm flipH="1">
            <a:off x="7200360" y="3215880"/>
            <a:ext cx="1476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22" name=""/>
          <p:cNvCxnSpPr>
            <a:stCxn id="1669" idx="2"/>
            <a:endCxn id="1672" idx="0"/>
          </p:cNvCxnSpPr>
          <p:nvPr/>
        </p:nvCxnSpPr>
        <p:spPr>
          <a:xfrm flipH="1">
            <a:off x="7810200" y="3215880"/>
            <a:ext cx="151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23" name=""/>
          <p:cNvCxnSpPr>
            <a:stCxn id="1668" idx="2"/>
            <a:endCxn id="1673" idx="0"/>
          </p:cNvCxnSpPr>
          <p:nvPr/>
        </p:nvCxnSpPr>
        <p:spPr>
          <a:xfrm flipH="1">
            <a:off x="8419680" y="3215880"/>
            <a:ext cx="151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24" name=""/>
          <p:cNvCxnSpPr>
            <a:stCxn id="1670" idx="2"/>
            <a:endCxn id="1674" idx="0"/>
          </p:cNvCxnSpPr>
          <p:nvPr/>
        </p:nvCxnSpPr>
        <p:spPr>
          <a:xfrm>
            <a:off x="8947080" y="3215880"/>
            <a:ext cx="720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25" name=""/>
          <p:cNvCxnSpPr>
            <a:stCxn id="1706" idx="2"/>
            <a:endCxn id="1637" idx="4"/>
          </p:cNvCxnSpPr>
          <p:nvPr/>
        </p:nvCxnSpPr>
        <p:spPr>
          <a:xfrm flipH="1" flipV="1">
            <a:off x="189720" y="3200040"/>
            <a:ext cx="7296840" cy="1007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26" name=""/>
          <p:cNvCxnSpPr>
            <a:stCxn id="1706" idx="2"/>
            <a:endCxn id="1657" idx="2"/>
          </p:cNvCxnSpPr>
          <p:nvPr/>
        </p:nvCxnSpPr>
        <p:spPr>
          <a:xfrm flipH="1" flipV="1">
            <a:off x="696600" y="3215880"/>
            <a:ext cx="679032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27" name=""/>
          <p:cNvCxnSpPr>
            <a:stCxn id="1706" idx="2"/>
            <a:endCxn id="1656" idx="2"/>
          </p:cNvCxnSpPr>
          <p:nvPr/>
        </p:nvCxnSpPr>
        <p:spPr>
          <a:xfrm flipH="1" flipV="1">
            <a:off x="1305720" y="3215880"/>
            <a:ext cx="618084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28" name=""/>
          <p:cNvCxnSpPr>
            <a:stCxn id="1706" idx="2"/>
            <a:endCxn id="1658" idx="2"/>
          </p:cNvCxnSpPr>
          <p:nvPr/>
        </p:nvCxnSpPr>
        <p:spPr>
          <a:xfrm flipH="1" flipV="1">
            <a:off x="1915560" y="3215880"/>
            <a:ext cx="557100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29" name=""/>
          <p:cNvCxnSpPr>
            <a:stCxn id="1706" idx="2"/>
            <a:endCxn id="1663" idx="2"/>
          </p:cNvCxnSpPr>
          <p:nvPr/>
        </p:nvCxnSpPr>
        <p:spPr>
          <a:xfrm flipH="1" flipV="1">
            <a:off x="4811400" y="3215880"/>
            <a:ext cx="267552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30" name=""/>
          <p:cNvCxnSpPr>
            <a:stCxn id="1706" idx="2"/>
            <a:endCxn id="1665" idx="2"/>
          </p:cNvCxnSpPr>
          <p:nvPr/>
        </p:nvCxnSpPr>
        <p:spPr>
          <a:xfrm flipH="1" flipV="1">
            <a:off x="5462280" y="3215880"/>
            <a:ext cx="202464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31" name=""/>
          <p:cNvCxnSpPr>
            <a:stCxn id="1706" idx="2"/>
            <a:endCxn id="1664" idx="2"/>
          </p:cNvCxnSpPr>
          <p:nvPr/>
        </p:nvCxnSpPr>
        <p:spPr>
          <a:xfrm flipH="1" flipV="1">
            <a:off x="6071400" y="3215880"/>
            <a:ext cx="141516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32" name=""/>
          <p:cNvCxnSpPr>
            <a:stCxn id="1706" idx="2"/>
            <a:endCxn id="1666" idx="2"/>
          </p:cNvCxnSpPr>
          <p:nvPr/>
        </p:nvCxnSpPr>
        <p:spPr>
          <a:xfrm flipH="1" flipV="1">
            <a:off x="6681240" y="3215880"/>
            <a:ext cx="80532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33" name=""/>
          <p:cNvCxnSpPr>
            <a:stCxn id="1707" idx="2"/>
            <a:endCxn id="1637" idx="0"/>
          </p:cNvCxnSpPr>
          <p:nvPr/>
        </p:nvCxnSpPr>
        <p:spPr>
          <a:xfrm flipH="1">
            <a:off x="189720" y="2301840"/>
            <a:ext cx="324396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34" name=""/>
          <p:cNvCxnSpPr>
            <a:stCxn id="1707" idx="2"/>
            <a:endCxn id="1657" idx="0"/>
          </p:cNvCxnSpPr>
          <p:nvPr/>
        </p:nvCxnSpPr>
        <p:spPr>
          <a:xfrm flipH="1">
            <a:off x="696960" y="2301840"/>
            <a:ext cx="273708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35" name=""/>
          <p:cNvCxnSpPr>
            <a:stCxn id="1707" idx="2"/>
            <a:endCxn id="1663" idx="0"/>
          </p:cNvCxnSpPr>
          <p:nvPr/>
        </p:nvCxnSpPr>
        <p:spPr>
          <a:xfrm>
            <a:off x="3433680" y="2301840"/>
            <a:ext cx="137880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36" name=""/>
          <p:cNvCxnSpPr>
            <a:stCxn id="1707" idx="2"/>
            <a:endCxn id="1665" idx="0"/>
          </p:cNvCxnSpPr>
          <p:nvPr/>
        </p:nvCxnSpPr>
        <p:spPr>
          <a:xfrm>
            <a:off x="3433680" y="2301840"/>
            <a:ext cx="202968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37" name=""/>
          <p:cNvCxnSpPr>
            <a:stCxn id="1707" idx="2"/>
            <a:endCxn id="1664" idx="0"/>
          </p:cNvCxnSpPr>
          <p:nvPr/>
        </p:nvCxnSpPr>
        <p:spPr>
          <a:xfrm>
            <a:off x="3433320" y="2301840"/>
            <a:ext cx="263916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38" name=""/>
          <p:cNvCxnSpPr>
            <a:stCxn id="1707" idx="2"/>
            <a:endCxn id="1666" idx="0"/>
          </p:cNvCxnSpPr>
          <p:nvPr/>
        </p:nvCxnSpPr>
        <p:spPr>
          <a:xfrm>
            <a:off x="3433320" y="2301840"/>
            <a:ext cx="324900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39" name=""/>
          <p:cNvSpPr/>
          <p:nvPr/>
        </p:nvSpPr>
        <p:spPr>
          <a:xfrm>
            <a:off x="107244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4626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68192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2914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282492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34344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404424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45774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574488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513540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635472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688788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810720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749772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861984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54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5" name=""/>
          <p:cNvCxnSpPr>
            <a:stCxn id="1637" idx="4"/>
            <a:endCxn id="1754" idx="0"/>
          </p:cNvCxnSpPr>
          <p:nvPr/>
        </p:nvCxnSpPr>
        <p:spPr>
          <a:xfrm>
            <a:off x="190080" y="3200040"/>
            <a:ext cx="3564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756" name=""/>
          <p:cNvSpPr/>
          <p:nvPr/>
        </p:nvSpPr>
        <p:spPr>
          <a:xfrm>
            <a:off x="79246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6780960" y="175248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in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8" name=""/>
          <p:cNvCxnSpPr>
            <a:stCxn id="1707" idx="2"/>
            <a:endCxn id="1656" idx="0"/>
          </p:cNvCxnSpPr>
          <p:nvPr/>
        </p:nvCxnSpPr>
        <p:spPr>
          <a:xfrm flipH="1">
            <a:off x="1305720" y="2301840"/>
            <a:ext cx="212796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59" name=""/>
          <p:cNvCxnSpPr>
            <a:stCxn id="1707" idx="2"/>
            <a:endCxn id="1658" idx="0"/>
          </p:cNvCxnSpPr>
          <p:nvPr/>
        </p:nvCxnSpPr>
        <p:spPr>
          <a:xfrm flipH="1">
            <a:off x="1915560" y="2301840"/>
            <a:ext cx="151812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60" name=""/>
          <p:cNvSpPr/>
          <p:nvPr/>
        </p:nvSpPr>
        <p:spPr>
          <a:xfrm>
            <a:off x="0" y="1828800"/>
            <a:ext cx="914400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2" name=""/>
          <p:cNvCxnSpPr>
            <a:stCxn id="1706" idx="2"/>
            <a:endCxn id="1754" idx="0"/>
          </p:cNvCxnSpPr>
          <p:nvPr/>
        </p:nvCxnSpPr>
        <p:spPr>
          <a:xfrm flipH="1">
            <a:off x="225000" y="4206600"/>
            <a:ext cx="726192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63" name=""/>
          <p:cNvCxnSpPr>
            <a:stCxn id="1706" idx="2"/>
            <a:endCxn id="1740" idx="0"/>
          </p:cNvCxnSpPr>
          <p:nvPr/>
        </p:nvCxnSpPr>
        <p:spPr>
          <a:xfrm flipH="1">
            <a:off x="682200" y="4206600"/>
            <a:ext cx="680472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64" name=""/>
          <p:cNvCxnSpPr>
            <a:stCxn id="1706" idx="2"/>
            <a:endCxn id="1739" idx="0"/>
          </p:cNvCxnSpPr>
          <p:nvPr/>
        </p:nvCxnSpPr>
        <p:spPr>
          <a:xfrm flipH="1">
            <a:off x="1292040" y="4206600"/>
            <a:ext cx="619488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65" name=""/>
          <p:cNvCxnSpPr>
            <a:stCxn id="1706" idx="2"/>
            <a:endCxn id="1741" idx="0"/>
          </p:cNvCxnSpPr>
          <p:nvPr/>
        </p:nvCxnSpPr>
        <p:spPr>
          <a:xfrm flipH="1">
            <a:off x="1901160" y="4206600"/>
            <a:ext cx="558540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66" name=""/>
          <p:cNvCxnSpPr>
            <a:stCxn id="1706" idx="2"/>
            <a:endCxn id="1742" idx="0"/>
          </p:cNvCxnSpPr>
          <p:nvPr/>
        </p:nvCxnSpPr>
        <p:spPr>
          <a:xfrm flipH="1">
            <a:off x="2511000" y="4206600"/>
            <a:ext cx="497592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67" name=""/>
          <p:cNvCxnSpPr>
            <a:stCxn id="1706" idx="2"/>
            <a:endCxn id="1743" idx="0"/>
          </p:cNvCxnSpPr>
          <p:nvPr/>
        </p:nvCxnSpPr>
        <p:spPr>
          <a:xfrm flipH="1">
            <a:off x="3044520" y="4206600"/>
            <a:ext cx="444240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68" name=""/>
          <p:cNvCxnSpPr>
            <a:stCxn id="1706" idx="2"/>
            <a:endCxn id="1744" idx="0"/>
          </p:cNvCxnSpPr>
          <p:nvPr/>
        </p:nvCxnSpPr>
        <p:spPr>
          <a:xfrm flipH="1">
            <a:off x="3653640" y="4206600"/>
            <a:ext cx="383292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69" name=""/>
          <p:cNvCxnSpPr>
            <a:stCxn id="1706" idx="2"/>
            <a:endCxn id="1745" idx="0"/>
          </p:cNvCxnSpPr>
          <p:nvPr/>
        </p:nvCxnSpPr>
        <p:spPr>
          <a:xfrm flipH="1">
            <a:off x="4263480" y="4206600"/>
            <a:ext cx="322308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70" name=""/>
          <p:cNvCxnSpPr>
            <a:stCxn id="1706" idx="2"/>
            <a:endCxn id="1746" idx="0"/>
          </p:cNvCxnSpPr>
          <p:nvPr/>
        </p:nvCxnSpPr>
        <p:spPr>
          <a:xfrm flipH="1">
            <a:off x="4797000" y="4206600"/>
            <a:ext cx="268992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71" name=""/>
          <p:cNvCxnSpPr>
            <a:stCxn id="1706" idx="2"/>
            <a:endCxn id="1748" idx="0"/>
          </p:cNvCxnSpPr>
          <p:nvPr/>
        </p:nvCxnSpPr>
        <p:spPr>
          <a:xfrm flipH="1">
            <a:off x="5392440" y="4206600"/>
            <a:ext cx="209448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72" name=""/>
          <p:cNvCxnSpPr>
            <a:stCxn id="1706" idx="2"/>
            <a:endCxn id="1747" idx="0"/>
          </p:cNvCxnSpPr>
          <p:nvPr/>
        </p:nvCxnSpPr>
        <p:spPr>
          <a:xfrm flipH="1">
            <a:off x="6001560" y="4206600"/>
            <a:ext cx="148500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73" name=""/>
          <p:cNvCxnSpPr>
            <a:stCxn id="1706" idx="2"/>
            <a:endCxn id="1749" idx="0"/>
          </p:cNvCxnSpPr>
          <p:nvPr/>
        </p:nvCxnSpPr>
        <p:spPr>
          <a:xfrm flipH="1">
            <a:off x="6611400" y="4206600"/>
            <a:ext cx="87552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74" name=""/>
          <p:cNvCxnSpPr>
            <a:stCxn id="1706" idx="2"/>
            <a:endCxn id="1750" idx="0"/>
          </p:cNvCxnSpPr>
          <p:nvPr/>
        </p:nvCxnSpPr>
        <p:spPr>
          <a:xfrm flipH="1">
            <a:off x="7144920" y="4206600"/>
            <a:ext cx="34200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75" name=""/>
          <p:cNvCxnSpPr>
            <a:stCxn id="1706" idx="2"/>
            <a:endCxn id="1752" idx="0"/>
          </p:cNvCxnSpPr>
          <p:nvPr/>
        </p:nvCxnSpPr>
        <p:spPr>
          <a:xfrm>
            <a:off x="7486200" y="4206600"/>
            <a:ext cx="26892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76" name=""/>
          <p:cNvCxnSpPr>
            <a:stCxn id="1706" idx="2"/>
            <a:endCxn id="1751" idx="0"/>
          </p:cNvCxnSpPr>
          <p:nvPr/>
        </p:nvCxnSpPr>
        <p:spPr>
          <a:xfrm>
            <a:off x="7486200" y="4206600"/>
            <a:ext cx="87876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777" name=""/>
          <p:cNvCxnSpPr>
            <a:stCxn id="1706" idx="2"/>
            <a:endCxn id="1753" idx="0"/>
          </p:cNvCxnSpPr>
          <p:nvPr/>
        </p:nvCxnSpPr>
        <p:spPr>
          <a:xfrm>
            <a:off x="7486200" y="4206600"/>
            <a:ext cx="139104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778" name=""/>
          <p:cNvSpPr/>
          <p:nvPr/>
        </p:nvSpPr>
        <p:spPr>
          <a:xfrm>
            <a:off x="4952880" y="3505320"/>
            <a:ext cx="38124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5562720" y="3505320"/>
            <a:ext cx="38088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6172200" y="3505320"/>
            <a:ext cx="38088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2666880" y="3505320"/>
            <a:ext cx="38124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200400" y="3505320"/>
            <a:ext cx="38088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3809880" y="3505320"/>
            <a:ext cx="38124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419720" y="3505320"/>
            <a:ext cx="38088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304920" y="3505320"/>
            <a:ext cx="38088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838080" y="3505320"/>
            <a:ext cx="38124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447920" y="3505320"/>
            <a:ext cx="38088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2057400" y="3505320"/>
            <a:ext cx="38088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9" name=""/>
          <p:cNvCxnSpPr>
            <a:stCxn id="1785" idx="6"/>
            <a:endCxn id="1786" idx="2"/>
          </p:cNvCxnSpPr>
          <p:nvPr/>
        </p:nvCxnSpPr>
        <p:spPr>
          <a:xfrm>
            <a:off x="685440" y="3695400"/>
            <a:ext cx="15300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790" name=""/>
          <p:cNvCxnSpPr>
            <a:stCxn id="1786" idx="6"/>
            <a:endCxn id="1787" idx="2"/>
          </p:cNvCxnSpPr>
          <p:nvPr/>
        </p:nvCxnSpPr>
        <p:spPr>
          <a:xfrm>
            <a:off x="1218960" y="369540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791" name=""/>
          <p:cNvCxnSpPr>
            <a:stCxn id="1787" idx="6"/>
            <a:endCxn id="1788" idx="2"/>
          </p:cNvCxnSpPr>
          <p:nvPr/>
        </p:nvCxnSpPr>
        <p:spPr>
          <a:xfrm>
            <a:off x="1828440" y="369540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792" name=""/>
          <p:cNvCxnSpPr>
            <a:stCxn id="1788" idx="6"/>
            <a:endCxn id="1781" idx="2"/>
          </p:cNvCxnSpPr>
          <p:nvPr/>
        </p:nvCxnSpPr>
        <p:spPr>
          <a:xfrm>
            <a:off x="2437920" y="369540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793" name=""/>
          <p:cNvCxnSpPr>
            <a:stCxn id="1781" idx="6"/>
            <a:endCxn id="1782" idx="2"/>
          </p:cNvCxnSpPr>
          <p:nvPr/>
        </p:nvCxnSpPr>
        <p:spPr>
          <a:xfrm>
            <a:off x="3047760" y="3695400"/>
            <a:ext cx="15300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794" name=""/>
          <p:cNvCxnSpPr>
            <a:stCxn id="1782" idx="6"/>
            <a:endCxn id="1783" idx="2"/>
          </p:cNvCxnSpPr>
          <p:nvPr/>
        </p:nvCxnSpPr>
        <p:spPr>
          <a:xfrm>
            <a:off x="3580920" y="369540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795" name=""/>
          <p:cNvCxnSpPr>
            <a:stCxn id="1783" idx="6"/>
            <a:endCxn id="1784" idx="2"/>
          </p:cNvCxnSpPr>
          <p:nvPr/>
        </p:nvCxnSpPr>
        <p:spPr>
          <a:xfrm>
            <a:off x="4190760" y="369540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796" name=""/>
          <p:cNvCxnSpPr>
            <a:stCxn id="1784" idx="6"/>
            <a:endCxn id="1778" idx="2"/>
          </p:cNvCxnSpPr>
          <p:nvPr/>
        </p:nvCxnSpPr>
        <p:spPr>
          <a:xfrm>
            <a:off x="4800240" y="3695400"/>
            <a:ext cx="15300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797" name=""/>
          <p:cNvCxnSpPr>
            <a:stCxn id="1778" idx="6"/>
            <a:endCxn id="1779" idx="2"/>
          </p:cNvCxnSpPr>
          <p:nvPr/>
        </p:nvCxnSpPr>
        <p:spPr>
          <a:xfrm>
            <a:off x="5333760" y="369540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798" name=""/>
          <p:cNvCxnSpPr>
            <a:stCxn id="1779" idx="6"/>
            <a:endCxn id="1780" idx="2"/>
          </p:cNvCxnSpPr>
          <p:nvPr/>
        </p:nvCxnSpPr>
        <p:spPr>
          <a:xfrm>
            <a:off x="5943240" y="369540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sp>
        <p:nvSpPr>
          <p:cNvPr id="1799" name=""/>
          <p:cNvSpPr/>
          <p:nvPr/>
        </p:nvSpPr>
        <p:spPr>
          <a:xfrm>
            <a:off x="137664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76716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198612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259596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312912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373896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434844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488196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6104880" y="3505320"/>
            <a:ext cx="64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495040" y="3505320"/>
            <a:ext cx="64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156960" y="3505320"/>
            <a:ext cx="63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0" name=""/>
          <p:cNvCxnSpPr>
            <a:endCxn id="1785" idx="1"/>
          </p:cNvCxnSpPr>
          <p:nvPr/>
        </p:nvCxnSpPr>
        <p:spPr>
          <a:xfrm>
            <a:off x="190440" y="3200040"/>
            <a:ext cx="170640" cy="36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11" name=""/>
          <p:cNvCxnSpPr>
            <a:endCxn id="1786" idx="1"/>
          </p:cNvCxnSpPr>
          <p:nvPr/>
        </p:nvCxnSpPr>
        <p:spPr>
          <a:xfrm>
            <a:off x="696600" y="3215880"/>
            <a:ext cx="19764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12" name=""/>
          <p:cNvCxnSpPr>
            <a:endCxn id="1787" idx="1"/>
          </p:cNvCxnSpPr>
          <p:nvPr/>
        </p:nvCxnSpPr>
        <p:spPr>
          <a:xfrm>
            <a:off x="1306080" y="3215880"/>
            <a:ext cx="19764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13" name=""/>
          <p:cNvCxnSpPr>
            <a:endCxn id="1788" idx="1"/>
          </p:cNvCxnSpPr>
          <p:nvPr/>
        </p:nvCxnSpPr>
        <p:spPr>
          <a:xfrm>
            <a:off x="1916280" y="3215880"/>
            <a:ext cx="19728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14" name=""/>
          <p:cNvCxnSpPr>
            <a:endCxn id="1781" idx="1"/>
          </p:cNvCxnSpPr>
          <p:nvPr/>
        </p:nvCxnSpPr>
        <p:spPr>
          <a:xfrm>
            <a:off x="2525400" y="3215880"/>
            <a:ext cx="19764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15" name=""/>
          <p:cNvCxnSpPr>
            <a:endCxn id="1782" idx="1"/>
          </p:cNvCxnSpPr>
          <p:nvPr/>
        </p:nvCxnSpPr>
        <p:spPr>
          <a:xfrm>
            <a:off x="3059280" y="3215880"/>
            <a:ext cx="19728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16" name=""/>
          <p:cNvCxnSpPr>
            <a:endCxn id="1783" idx="1"/>
          </p:cNvCxnSpPr>
          <p:nvPr/>
        </p:nvCxnSpPr>
        <p:spPr>
          <a:xfrm>
            <a:off x="3668400" y="3215880"/>
            <a:ext cx="19764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17" name=""/>
          <p:cNvCxnSpPr>
            <a:endCxn id="1784" idx="1"/>
          </p:cNvCxnSpPr>
          <p:nvPr/>
        </p:nvCxnSpPr>
        <p:spPr>
          <a:xfrm>
            <a:off x="4277880" y="3215880"/>
            <a:ext cx="19764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18" name=""/>
          <p:cNvCxnSpPr>
            <a:endCxn id="1778" idx="1"/>
          </p:cNvCxnSpPr>
          <p:nvPr/>
        </p:nvCxnSpPr>
        <p:spPr>
          <a:xfrm>
            <a:off x="4811400" y="3215880"/>
            <a:ext cx="19764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19" name=""/>
          <p:cNvCxnSpPr>
            <a:endCxn id="1779" idx="1"/>
          </p:cNvCxnSpPr>
          <p:nvPr/>
        </p:nvCxnSpPr>
        <p:spPr>
          <a:xfrm>
            <a:off x="5462640" y="3215880"/>
            <a:ext cx="15588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20" name=""/>
          <p:cNvCxnSpPr>
            <a:endCxn id="1780" idx="1"/>
          </p:cNvCxnSpPr>
          <p:nvPr/>
        </p:nvCxnSpPr>
        <p:spPr>
          <a:xfrm>
            <a:off x="6072120" y="3215880"/>
            <a:ext cx="15588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21" name=""/>
          <p:cNvCxnSpPr>
            <a:stCxn id="1807" idx="0"/>
          </p:cNvCxnSpPr>
          <p:nvPr/>
        </p:nvCxnSpPr>
        <p:spPr>
          <a:xfrm flipV="1">
            <a:off x="6426000" y="3144240"/>
            <a:ext cx="106920" cy="36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822" name=""/>
          <p:cNvCxnSpPr>
            <a:stCxn id="1808" idx="0"/>
            <a:endCxn id="1631" idx="3"/>
          </p:cNvCxnSpPr>
          <p:nvPr/>
        </p:nvCxnSpPr>
        <p:spPr>
          <a:xfrm flipV="1">
            <a:off x="5816520" y="3144240"/>
            <a:ext cx="107280" cy="36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823" name=""/>
          <p:cNvCxnSpPr>
            <a:stCxn id="1806" idx="0"/>
            <a:endCxn id="1630" idx="3"/>
          </p:cNvCxnSpPr>
          <p:nvPr/>
        </p:nvCxnSpPr>
        <p:spPr>
          <a:xfrm flipV="1">
            <a:off x="5165640" y="3144240"/>
            <a:ext cx="148320" cy="36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824" name=""/>
          <p:cNvCxnSpPr>
            <a:stCxn id="1805" idx="0"/>
            <a:endCxn id="1629" idx="3"/>
          </p:cNvCxnSpPr>
          <p:nvPr/>
        </p:nvCxnSpPr>
        <p:spPr>
          <a:xfrm flipV="1">
            <a:off x="4632480" y="3144240"/>
            <a:ext cx="72000" cy="36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825" name=""/>
          <p:cNvCxnSpPr>
            <a:stCxn id="1809" idx="0"/>
            <a:endCxn id="1638" idx="3"/>
          </p:cNvCxnSpPr>
          <p:nvPr/>
        </p:nvCxnSpPr>
        <p:spPr>
          <a:xfrm flipV="1">
            <a:off x="473040" y="3144240"/>
            <a:ext cx="116640" cy="36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826" name=""/>
          <p:cNvCxnSpPr>
            <a:stCxn id="1800" idx="0"/>
            <a:endCxn id="1639" idx="3"/>
          </p:cNvCxnSpPr>
          <p:nvPr/>
        </p:nvCxnSpPr>
        <p:spPr>
          <a:xfrm flipV="1">
            <a:off x="1050840" y="3144240"/>
            <a:ext cx="148320" cy="36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827" name=""/>
          <p:cNvCxnSpPr>
            <a:stCxn id="1799" idx="0"/>
            <a:endCxn id="1640" idx="3"/>
          </p:cNvCxnSpPr>
          <p:nvPr/>
        </p:nvCxnSpPr>
        <p:spPr>
          <a:xfrm flipV="1">
            <a:off x="1660680" y="3144240"/>
            <a:ext cx="148320" cy="36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C79C-8816-45D3-9996-085E0D0DA2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HPM form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ailed atte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turn an HPM into a DB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questions to 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686-3054-4677-BD55-E0B3A5DC05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PM to DBN: Algorithm Ske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= max number of process instances in any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set of possible start times given by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possible landmarks + all possible offsets).  (S=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MT Extra"/>
                <a:ea typeface="MT Extra"/>
              </a:rPr>
              <a:t>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75F4-18BF-4BC5-81F5-DA127A78E9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PM to DBN: Algorithm Ske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nodes C and 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1…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n=1: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nodes Hn and L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 C-&gt;Hn and C-&gt;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a Markov chain I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1…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t=1:T {connect I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&gt;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a Markov chain A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min(S)…max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t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 Hn-&gt;I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 Ln-&gt;I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 A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t-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&gt;I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 I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&gt;A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37A5-531B-4732-93C4-6F7303FD84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PM to DBN: Algorithm Ske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e CPDs with HPM parameters as hinted at abo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E: This DBN structure does not require any new (not already in HPM) free parame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78A-6C69-4449-B1A0-0EA298956C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we 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 represent HPMs as DB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HPM with N possible process instances and T timepoints can be turned into a DBN with O(TN) n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BN representation has no more free parameters than the HPM re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372-5357-4E1E-8A96-F10AB2399D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we’re go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but not toda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BN representation is less elegant than the HPM representation.  Is it worth this loss of simplicity to be able to use existing DBN machi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do inference better?  Fas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learn parameters better?  Fas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do the extensions we want in the DBN frame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us specific d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7B42-58F1-4E23-A19E-221458D83C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PM Form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M = &lt;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&lt;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&lt;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, a set of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d&gt;, 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esponse sig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llowable off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ultinomial parameters over values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 process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&lt;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, a set of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&l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, a set of process in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Symbol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&lt;h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O&gt;, a process 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 process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499"/>
              </a:spcBef>
              <a:buClr>
                <a:srgbClr val="000000"/>
              </a:buClr>
              <a:buFont typeface="Symbol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ssociated stimulus land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= offset (takes values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4FE-385D-46D0-A4CF-2CC454FD38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6858000"/>
            <a:ext cx="9142560" cy="138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A21-7277-4688-A59C-EE76ADB4E7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Proces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38098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ID =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12840" t="19277" r="64539" b="67097"/>
          <a:stretch/>
        </p:blipFill>
        <p:spPr>
          <a:xfrm>
            <a:off x="2400480" y="5168880"/>
            <a:ext cx="5715000" cy="41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12810" t="81133" r="64669" b="0"/>
          <a:stretch/>
        </p:blipFill>
        <p:spPr>
          <a:xfrm>
            <a:off x="2355840" y="5943600"/>
            <a:ext cx="568944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5377800">
            <a:off x="3263760" y="389880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377800">
            <a:off x="4787640" y="473688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377800">
            <a:off x="5187600" y="3193920"/>
            <a:ext cx="304920" cy="306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2760" y="34290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67120" y="373392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411480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377800">
            <a:off x="3263760" y="389880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377800">
            <a:off x="5187600" y="3193920"/>
            <a:ext cx="304920" cy="306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34290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ID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352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Instan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191120"/>
            <a:ext cx="22860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ed fM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800" spc="-1" strike="noStrike">
                <a:solidFill>
                  <a:srgbClr val="ef9c07"/>
                </a:solidFill>
                <a:latin typeface="Arial"/>
              </a:rPr>
              <a:t>cortical region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ortical region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295280" y="5334120"/>
            <a:ext cx="674640" cy="685800"/>
            <a:chOff x="1295280" y="5334120"/>
            <a:chExt cx="674640" cy="685800"/>
          </a:xfrm>
        </p:grpSpPr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1295280" y="5334120"/>
              <a:ext cx="674640" cy="685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5" name=""/>
            <p:cNvSpPr/>
            <p:nvPr/>
          </p:nvSpPr>
          <p:spPr>
            <a:xfrm>
              <a:off x="1664280" y="5470920"/>
              <a:ext cx="71280" cy="15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76160" y="5744160"/>
              <a:ext cx="136800" cy="680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7" name=""/>
          <p:cNvCxnSpPr>
            <a:endCxn id="58" idx="1"/>
          </p:cNvCxnSpPr>
          <p:nvPr/>
        </p:nvCxnSpPr>
        <p:spPr>
          <a:xfrm>
            <a:off x="3200040" y="3429000"/>
            <a:ext cx="21492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0" idx="2"/>
            <a:endCxn id="53" idx="1"/>
          </p:cNvCxnSpPr>
          <p:nvPr/>
        </p:nvCxnSpPr>
        <p:spPr>
          <a:xfrm>
            <a:off x="4571640" y="3733560"/>
            <a:ext cx="36756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49" idx="2"/>
            <a:endCxn id="59" idx="1"/>
          </p:cNvCxnSpPr>
          <p:nvPr/>
        </p:nvCxnSpPr>
        <p:spPr>
          <a:xfrm>
            <a:off x="5333760" y="4114800"/>
            <a:ext cx="54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9829800" y="38098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ide whether consis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rcRect l="12840" t="19277" r="64539" b="67097"/>
          <a:stretch/>
        </p:blipFill>
        <p:spPr>
          <a:xfrm>
            <a:off x="8115480" y="5168880"/>
            <a:ext cx="5715000" cy="41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rcRect l="12810" t="81133" r="64669" b="0"/>
          <a:stretch/>
        </p:blipFill>
        <p:spPr>
          <a:xfrm>
            <a:off x="8070840" y="5943600"/>
            <a:ext cx="5689440" cy="304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rot="5377800">
            <a:off x="8978760" y="389880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377800">
            <a:off x="10502640" y="473688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377800">
            <a:off x="10902600" y="3193920"/>
            <a:ext cx="304920" cy="306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34290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582120" y="373392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677520" y="411480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377800">
            <a:off x="8978760" y="389880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377800">
            <a:off x="10902600" y="3193920"/>
            <a:ext cx="304920" cy="306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372600" y="34290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endCxn id="79" idx="1"/>
          </p:cNvCxnSpPr>
          <p:nvPr/>
        </p:nvCxnSpPr>
        <p:spPr>
          <a:xfrm>
            <a:off x="8000640" y="3429000"/>
            <a:ext cx="112932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1" idx="2"/>
            <a:endCxn id="74" idx="1"/>
          </p:cNvCxnSpPr>
          <p:nvPr/>
        </p:nvCxnSpPr>
        <p:spPr>
          <a:xfrm>
            <a:off x="10286640" y="3733560"/>
            <a:ext cx="36756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0" idx="2"/>
            <a:endCxn id="80" idx="1"/>
          </p:cNvCxnSpPr>
          <p:nvPr/>
        </p:nvCxnSpPr>
        <p:spPr>
          <a:xfrm>
            <a:off x="11048760" y="4114800"/>
            <a:ext cx="54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308160" y="16257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1219320"/>
            <a:ext cx="19810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1219320"/>
            <a:ext cx="2057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1219320"/>
            <a:ext cx="2057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4000" y="1143000"/>
            <a:ext cx="203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: Read sent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ID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7360" y="1143000"/>
            <a:ext cx="183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: View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ID: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7040" y="1143000"/>
            <a:ext cx="2091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: Decide whe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is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ID: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2362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362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2362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1790640"/>
            <a:ext cx="1218960" cy="800280"/>
          </a:xfrm>
          <a:custGeom>
            <a:avLst/>
            <a:gdLst/>
            <a:ahLst/>
            <a:rect l="l" t="t" r="r" b="b"/>
            <a:pathLst>
              <a:path w="768" h="504">
                <a:moveTo>
                  <a:pt x="0" y="312"/>
                </a:moveTo>
                <a:cubicBezTo>
                  <a:pt x="24" y="408"/>
                  <a:pt x="48" y="504"/>
                  <a:pt x="96" y="456"/>
                </a:cubicBezTo>
                <a:cubicBezTo>
                  <a:pt x="144" y="408"/>
                  <a:pt x="224" y="48"/>
                  <a:pt x="288" y="24"/>
                </a:cubicBezTo>
                <a:cubicBezTo>
                  <a:pt x="352" y="0"/>
                  <a:pt x="400" y="256"/>
                  <a:pt x="480" y="312"/>
                </a:cubicBezTo>
                <a:cubicBezTo>
                  <a:pt x="560" y="368"/>
                  <a:pt x="720" y="352"/>
                  <a:pt x="768" y="360"/>
                </a:cubicBezTo>
              </a:path>
            </a:pathLst>
          </a:custGeom>
          <a:noFill/>
          <a:ln w="28440">
            <a:solidFill>
              <a:srgbClr val="ef9c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2044800"/>
            <a:ext cx="1219320" cy="431640"/>
          </a:xfrm>
          <a:custGeom>
            <a:avLst/>
            <a:gdLst/>
            <a:ahLst/>
            <a:rect l="l" t="t" r="r" b="b"/>
            <a:pathLst>
              <a:path w="768" h="272">
                <a:moveTo>
                  <a:pt x="0" y="152"/>
                </a:moveTo>
                <a:cubicBezTo>
                  <a:pt x="32" y="212"/>
                  <a:pt x="64" y="272"/>
                  <a:pt x="144" y="248"/>
                </a:cubicBezTo>
                <a:cubicBezTo>
                  <a:pt x="224" y="224"/>
                  <a:pt x="376" y="16"/>
                  <a:pt x="480" y="8"/>
                </a:cubicBezTo>
                <a:cubicBezTo>
                  <a:pt x="584" y="0"/>
                  <a:pt x="676" y="100"/>
                  <a:pt x="768" y="200"/>
                </a:cubicBezTo>
              </a:path>
            </a:pathLst>
          </a:custGeom>
          <a:noFill/>
          <a:ln w="28440">
            <a:solidFill>
              <a:srgbClr val="ef9c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2057400"/>
            <a:ext cx="1219320" cy="30492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192"/>
                </a:moveTo>
                <a:cubicBezTo>
                  <a:pt x="80" y="96"/>
                  <a:pt x="160" y="0"/>
                  <a:pt x="288" y="0"/>
                </a:cubicBezTo>
                <a:cubicBezTo>
                  <a:pt x="416" y="0"/>
                  <a:pt x="592" y="96"/>
                  <a:pt x="768" y="192"/>
                </a:cubicBezTo>
              </a:path>
            </a:pathLst>
          </a:custGeom>
          <a:noFill/>
          <a:ln w="28440">
            <a:solidFill>
              <a:srgbClr val="ef9c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1752480"/>
            <a:ext cx="1219320" cy="800280"/>
          </a:xfrm>
          <a:custGeom>
            <a:avLst/>
            <a:gdLst/>
            <a:ahLst/>
            <a:rect l="l" t="t" r="r" b="b"/>
            <a:pathLst>
              <a:path w="768" h="504">
                <a:moveTo>
                  <a:pt x="0" y="312"/>
                </a:moveTo>
                <a:cubicBezTo>
                  <a:pt x="24" y="408"/>
                  <a:pt x="48" y="504"/>
                  <a:pt x="96" y="456"/>
                </a:cubicBezTo>
                <a:cubicBezTo>
                  <a:pt x="144" y="408"/>
                  <a:pt x="224" y="48"/>
                  <a:pt x="288" y="24"/>
                </a:cubicBezTo>
                <a:cubicBezTo>
                  <a:pt x="352" y="0"/>
                  <a:pt x="400" y="256"/>
                  <a:pt x="480" y="312"/>
                </a:cubicBezTo>
                <a:cubicBezTo>
                  <a:pt x="560" y="368"/>
                  <a:pt x="720" y="352"/>
                  <a:pt x="768" y="36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2057400"/>
            <a:ext cx="1218960" cy="30492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192"/>
                </a:moveTo>
                <a:cubicBezTo>
                  <a:pt x="80" y="96"/>
                  <a:pt x="160" y="0"/>
                  <a:pt x="288" y="0"/>
                </a:cubicBezTo>
                <a:cubicBezTo>
                  <a:pt x="416" y="0"/>
                  <a:pt x="592" y="96"/>
                  <a:pt x="768" y="19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2031840"/>
            <a:ext cx="1219320" cy="330480"/>
          </a:xfrm>
          <a:custGeom>
            <a:avLst/>
            <a:gdLst/>
            <a:ahLst/>
            <a:rect l="l" t="t" r="r" b="b"/>
            <a:pathLst>
              <a:path w="768" h="208">
                <a:moveTo>
                  <a:pt x="0" y="208"/>
                </a:moveTo>
                <a:cubicBezTo>
                  <a:pt x="20" y="120"/>
                  <a:pt x="40" y="32"/>
                  <a:pt x="96" y="16"/>
                </a:cubicBezTo>
                <a:cubicBezTo>
                  <a:pt x="152" y="0"/>
                  <a:pt x="240" y="96"/>
                  <a:pt x="336" y="112"/>
                </a:cubicBezTo>
                <a:cubicBezTo>
                  <a:pt x="432" y="128"/>
                  <a:pt x="600" y="96"/>
                  <a:pt x="672" y="112"/>
                </a:cubicBezTo>
                <a:cubicBezTo>
                  <a:pt x="744" y="128"/>
                  <a:pt x="752" y="192"/>
                  <a:pt x="768" y="208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1240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ID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31240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ID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877C-2213-4A83-A7C5-A19AA0E26E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tic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7400" y="4114800"/>
            <a:ext cx="6172200" cy="258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1600200"/>
            <a:ext cx="1447920" cy="1144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759040" y="1563840"/>
            <a:ext cx="1447920" cy="114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800600" y="1600200"/>
            <a:ext cx="1447920" cy="1128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822040" y="12193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03120" y="12193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89120" y="12193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5520" y="175248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respon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80" y="320040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insta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32004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36576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41148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8240" y="430380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4495680"/>
            <a:ext cx="3124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8280" y="285588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D=1, 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4160" y="327672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D=2, S=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02760" y="373392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D=3, S=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4BD5-AEF2-467F-81A6-52B65299E2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tic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0" y="156384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figuration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156384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202104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441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8600" y="46846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118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8280" y="121932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cessID=1, 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4160" y="163980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cessID=2, S=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02760" y="209700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cessID=3, S=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" y="308772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Configuration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30877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5449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0384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2706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8280" y="274320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rocessID=2, 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4160" y="316404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rocessID=1, S=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31360" y="365760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rocessID=3, S=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28800" y="4114800"/>
            <a:ext cx="6248520" cy="2625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9680" y="510552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edic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9680" y="556272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redic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8E11-BD90-4D94-966F-ED79A62C8F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PM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8160" y="190512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=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1523880"/>
            <a:ext cx="19810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1523880"/>
            <a:ext cx="2057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1523880"/>
            <a:ext cx="2057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26280" y="1600200"/>
            <a:ext cx="2030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ame: Read sent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cess ID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ffsets: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= {0,1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uration: d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sponse: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9640" y="1600200"/>
            <a:ext cx="1826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Name: View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rocess ID: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Offsets: </a:t>
            </a:r>
            <a:r>
              <a:rPr b="1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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= {0,1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Duration: d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Response: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69320" y="1523880"/>
            <a:ext cx="2091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Name: Decide whe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onsis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Process ID: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Offsets: </a:t>
            </a:r>
            <a:r>
              <a:rPr b="1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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= {1,2,3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Duration: d=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Response: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0" y="358128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ur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=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3200400"/>
            <a:ext cx="19810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62520" y="3200400"/>
            <a:ext cx="2057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3200400"/>
            <a:ext cx="2057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3480" y="3429000"/>
            <a:ext cx="196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: &lt;h=1,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1,O=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: &lt;h=2,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9,O=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: &lt;h=3,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9,O=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L=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43160" y="3429000"/>
            <a:ext cx="196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: &lt;h=2,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1,O=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: &lt;h=1,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9,O=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: &lt;h=3,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9,O=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L=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6880" y="3505320"/>
            <a:ext cx="196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: &lt;h=1,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1,O=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: &lt;h=2,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9,O=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L=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74080" y="31240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83760" y="31240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17480" y="31240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77960" y="63025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6095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45040" y="607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11320" y="607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78760" y="607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68320" y="607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78360" y="607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1720" y="607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69120" y="607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607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01840" y="607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44840" y="607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11520" y="607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78560" y="607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45240" y="607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5960" y="607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626320" y="607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0880" y="6491160"/>
            <a:ext cx="85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1     2      3      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5       6      7      8      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9      10    11    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13   14    15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0760" y="308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563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41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9480" y="556272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9480" y="510552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9480" y="464832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4876920"/>
            <a:ext cx="32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4876920"/>
            <a:ext cx="3276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4952880"/>
            <a:ext cx="25909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5257800"/>
            <a:ext cx="3276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5257800"/>
            <a:ext cx="327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334120"/>
            <a:ext cx="25909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5715000"/>
            <a:ext cx="32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5715000"/>
            <a:ext cx="3276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7DD-B096-4988-B716-DAD337AB65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PM Form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M = &lt;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&lt;</a:t>
            </a:r>
            <a:r>
              <a:rPr b="0" lang="en-US" sz="3200" spc="-1" strike="noStrike">
                <a:solidFill>
                  <a:srgbClr val="008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lang="en-US" sz="3200" spc="-1" strike="noStrike">
                <a:solidFill>
                  <a:srgbClr val="008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&lt;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, a set of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&lt;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, 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esponse sig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ultinomial parameters over values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llowable off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rocess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&lt;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…, 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, a set of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&l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, a set of process in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Symbol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&lt;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, a process 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rocess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ssociated stimulus land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offset (takes values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40" y="304812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NOWN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3657600"/>
            <a:ext cx="6858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066680" y="2895480"/>
            <a:ext cx="175284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35400" y="3657600"/>
            <a:ext cx="188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YPICALLY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FERENC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OOSE A “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371600" y="4191120"/>
            <a:ext cx="5486400" cy="228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1828800"/>
            <a:ext cx="17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MIGHT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TO 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5105160" y="1904760"/>
            <a:ext cx="1981080" cy="759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743200" y="2438280"/>
            <a:ext cx="449568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40" y="563868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KN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GIVEN “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219320" y="5867280"/>
            <a:ext cx="914400" cy="763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481-48D0-435E-9966-ED1C067245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22:15:08Z</dcterms:created>
  <dc:creator>School of Computer Science</dc:creator>
  <dc:description/>
  <dc:language>en-US</dc:language>
  <cp:lastModifiedBy>Morningside Gang</cp:lastModifiedBy>
  <dcterms:modified xsi:type="dcterms:W3CDTF">2005-10-18T19:12:35Z</dcterms:modified>
  <cp:revision>27</cp:revision>
  <dc:subject/>
  <dc:title>Can Hidden Process Models  be represented as  Dynamic Bayes Nets?</dc:title>
</cp:coreProperties>
</file>